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5A3A-6916-4C35-8D94-052234211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EF1B-DF57-4203-996B-AA83D64A1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33FE-323F-4D8F-B45D-97BE5DF2A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42E9-C89D-4513-A688-D2326EA74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93112-79F3-431F-8389-1E614F3CFA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F648D-8D42-4E4E-B092-75E4D768BF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AFA02-36DD-4EA4-AA8B-089C26E31A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6DE22-889A-4BB3-A5D4-7A4164C1A7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CB7B5-856E-4A01-A59B-9E072E9302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E0362-56CF-4C1B-9982-E7372C8A23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D4E7D-42AA-4D71-9BA4-CC8116A3BA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7B621-4EED-43E5-9606-02388AAE61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5B369-A447-42A9-8D43-B5C77BEDED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ED84C-5C99-4AD8-88BD-6ED069FF58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4DCE6-DEFB-46E1-AC8D-96F4AD5FF2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303FF-8B56-430D-97A1-619E4C0343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8F0B-09DA-4BCD-AE37-956D1ADA0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Charles Wilson</cp:lastModifiedBy>
  <cp:lastPrinted>2008-06-04T21:47:01Z</cp:lastPrinted>
  <dcterms:modified xsi:type="dcterms:W3CDTF">2008-06-05T21:29:01Z</dcterms:modified>
  <cp:revision>86</cp:revision>
  <dc:subject/>
  <dc:title>AT Basic System Example</dc:title>
</cp:coreProperties>
</file>