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38906-2850-4FAA-A7A0-ADECB7A089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B1BE6-923A-4795-B7E1-792BCA3B3B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A4433-8963-4CDE-8C98-54A9E0D6E4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E3821-A098-4B73-B74E-33693AF128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1AFCF-80A5-4AC9-AF89-2D0AB89CD8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306FB-E846-4AF7-8AE9-09A0AAC9ED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72923-B94B-4959-BF54-BC1288D4E1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1C8DC-F3D2-4B06-B1C3-73203984BB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78131-5332-446E-B76D-98CA4D27E8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EAC55-B147-4E1F-974A-90149805B3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38730-D1D3-4CC9-9151-93EACABF99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DA0B7-0E0D-4075-ABD3-AD9292923A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14E41-73D5-4B11-8271-4A5525A027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210B2-4241-4FF9-A5E5-DF9B2F44B6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CC270-F802-4EAE-9D61-A8951ED486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4E89E-24EA-4F25-AAE3-8131079509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B470D-9665-46AE-BBAE-018379F93F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C0BA0-5EBD-4E2A-B609-8C1901B2BB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Approximately Time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172160" y="863640"/>
            <a:ext cx="590472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select_initiator.cpp: 2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new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select_initiator.cpp: 2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2_phase.cpp: 3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206360" y="860400"/>
            <a:ext cx="57373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2_phase.cpp: 47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select_initiator.cpp: 5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nb_transport_bw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select_initiator.cpp: 5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select_initiator.cpp: 5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Jack Donovan</cp:lastModifiedBy>
  <cp:lastPrinted>2008-06-04T18:30:41Z</cp:lastPrinted>
  <dcterms:modified xsi:type="dcterms:W3CDTF">2008-06-04T21:41:17Z</dcterms:modified>
  <cp:revision>88</cp:revision>
  <dc:subject/>
  <dc:title>AT Basic System Example</dc:title>
</cp:coreProperties>
</file>