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67EF-F15E-4DE2-B2C9-33AAA6D1C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F1CC-7BFD-47EF-B701-979389F67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C31A-2959-415A-AF51-F35D55777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3EE8-641F-4DD5-9845-129A7F85D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E5F0-541C-40C4-8274-13382A07F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6753C-66DE-41BE-AD4D-87E07CE07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B65A0-09D9-4799-887D-C878878917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8CD1A-6C10-45E9-812B-78D20C366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2E057-B4F3-4877-AE16-DD0910E907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67FAC-265F-43DD-B060-47F71AF843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8BD41-BBE8-4F00-AA42-51AAED3912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1A544-AE71-4FFF-9635-2AF5E4B0A1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8B6B7-B6C6-4660-AE99-C587684C2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567BA-1187-45C1-85FC-397943436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B0D79-7BA9-4D2B-A314-C3AA94BB6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9C5F6-5A12-4C7D-A170-F84CB01BAC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55D8C-B777-4E61-812C-B00D06C655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72AC-EC1E-4E27-BE51-BDF786F91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2180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dcterms:modified xsi:type="dcterms:W3CDTF">2008-06-04T19:47:11Z</dcterms:modified>
  <cp:revision>83</cp:revision>
  <dc:subject/>
  <dc:title>AT Basic System Example</dc:title>
</cp:coreProperties>
</file>