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D718-D88B-484D-B3AC-FE770AEE2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C787-7D8A-4B07-A9F4-4EBFDD6F3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2597-7368-49D2-8C26-DC1EF9B75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4149-624D-4188-B8F4-39CA7A19B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8660-F59D-4681-8EE5-9A9FDE9E1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0FFB6-A718-477B-A97D-70035766A3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E9084-5114-4DA1-AC79-A4042BA619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D7F77-8A2A-40AE-BA83-C1B21DE3CD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444B5-BABB-4C9B-AB29-DD8BDCED44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EC990-DE7C-4027-B9AB-0B34988361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EB35F-8C04-4E8F-BD7C-D07646265F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B3E2F-8A07-4C96-956B-2A1875787B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28AD0-C845-4643-A30E-EF3435DBDE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84BD8-D307-465D-A211-9659750696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58E91-162B-4616-BEEF-3A79AFC048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9ED40-DA50-41D9-BF82-558DA9D12F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C2D52-460F-4C6A-9F91-C58845D09D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4678-AFDB-4BC9-BC84-9F4E6D8D8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5T12:39:23Z</dcterms:modified>
  <cp:revision>85</cp:revision>
  <dc:subject/>
  <dc:title>AT Basic System Example</dc:title>
</cp:coreProperties>
</file>