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CFA3F-AABB-4277-9DE0-1C8A66D782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0BFC8-4C88-424E-98FC-FF69A4CA64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2FDD7-E0BE-44ED-A8F7-64C0338841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B05A4-07EB-491C-8952-E53B64B35A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ABD1D-BAE6-47BC-9847-8E3EA2C7AB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697C8-D3DF-4F77-B3F2-7275545693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E9A4E-F803-4941-BB57-D5DC77BD86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2BC7C-93FA-4EEF-8175-44A86A9CBA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15915-4670-473A-B112-EE79DBAAF7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F2827-E7A2-4E0F-856A-24DB6C40B7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55B3B-20D5-4FB8-9285-7A250C697F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59269-D318-4353-A04A-E1411411E1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53546-7912-4391-B1F8-0A6A049677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2DEE7-7EBB-40CE-92D2-F603DA5F47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A9C02-E9D0-40CF-9BD4-28DDC09129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59006-766B-44AB-9F39-76CB1AD124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31BFE-130C-4F93-B138-0B036E709F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B1BF2-368C-4035-8522-4E296842B7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Jack Donovan</cp:lastModifiedBy>
  <cp:lastPrinted>2008-06-04T21:18:56Z</cp:lastPrinted>
  <dcterms:modified xsi:type="dcterms:W3CDTF">2009-06-25T22:07:33Z</dcterms:modified>
  <cp:revision>86</cp:revision>
  <dc:subject/>
  <dc:title>AT Basic System Example</dc:title>
</cp:coreProperties>
</file>