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336E-C335-41EB-A9A3-D985398F0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8F2E-BAE0-4251-90F4-A1BA83589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714E-09D7-4597-945B-33A441F81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BA05-1E0B-4AD4-9E75-1C8766ECD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EC94-93CF-468D-AAC1-642E2A2AC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234B9-0564-492F-A143-2A4F9465FC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023AC-C1FA-4B25-BBE3-3FE0E53D39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5BFAD-1396-4A9B-8420-507E1F5D22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A1F9A-E38A-4959-8959-4A849E9F9E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EFC45-F974-4877-9A85-D1032AA9D6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5C9CF-D852-43F7-B4CE-31DC01AB89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A123A-BE9D-4A03-A50B-A6F3EEA53D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77664-9E29-49C5-A94B-6A85604E1B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2FE10-8163-4FDE-AEEA-4670432C98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9D4E7-4CCF-4848-8E9C-F13FE8CD76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3F7D0-24DA-4E5E-A496-473A605C5B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19001-33BA-4E55-8DA6-CF577FE3E4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3114-1A4F-4BD1-92C4-4952B70C6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6T16:59:39Z</dcterms:modified>
  <cp:revision>87</cp:revision>
  <dc:subject/>
  <dc:title>AT Basic System Example</dc:title>
</cp:coreProperties>
</file>