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4E199-3F70-4D74-B243-18E3878EF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21AA0-BC10-41DA-B972-1825449664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90A57-E948-406F-BEC7-A875587E5C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CF280-BAB8-46EE-8F19-40FB257E71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EC34B-266B-45C5-81A0-3CFEBF3AA0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A2CF6-7155-4CB9-A761-B2DC12CDAB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9141E-9272-417A-95AD-62D9647D9B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10F62-9BEB-49CC-B78F-5C3A4FCA39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7E6B7-E90C-469C-9D09-15571C7C0E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8A171-5769-44D2-85A0-2D6156A50A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E9E69C-EC81-43EC-A695-63179EEB03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72DC6-CA8E-46F4-8042-EEF115297B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DDCF3-01EB-496F-A637-588E5079B2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24D00-CFA7-4C82-96F6-7D15D0B209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9F44E-543A-4E72-82D5-DC18FD80F7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C8373-40A3-4D00-B4F0-70A584B809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E1990-63AA-410B-8124-0EFE7E6E5F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09C92-FF18-4FCB-A47F-1728E5E111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5C667-9866-42D1-834F-97A855B13B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DBB98-2891-455C-8773-DF09DD06BC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5609B-1AC6-4786-B1A7-0F72DED8DAA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9C0E4-D039-4D87-8005-690C76F321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EDC62-6537-491F-B686-B0D08A24C64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ABEAB-97EF-4D29-9ABD-A8B97AEFF2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151F9-7296-49CC-A15E-FB5F22CED14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E0866-76FE-44EC-ACB4-D8F364864A2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6BD3A-2D53-402B-87F9-29A6C4E336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8804C-46B7-4AA2-8C4F-3EA06612DE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D0323-78D4-4B2B-9DA4-A0738A28AB1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CE102-96AA-4A4B-AB25-F6A7A8FF7FC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47EDF-62BE-4D07-9778-B81A3FA5AB9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6D94F-2EF0-4D5C-9ADE-281C4F1129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2AAF8-1C0A-428D-988D-CCD4783B82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CD9B4-75B4-4AA1-AAED-93635329C2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C10C6-BAF3-43B1-8E2F-A5155ED81D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7D744-0744-4429-A7BB-54F54556DC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4836D-3E2C-449E-BCAF-5269306CDD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14EE9-6270-4A7F-8E58-54F4DD3FE6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A5D11-5F19-44CD-9B7F-E0FA3A34D2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30504171-7DB4-46F9-AF8C-2A92C2953C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1"/>
          <p:cNvSpPr/>
          <p:nvPr/>
        </p:nvSpPr>
        <p:spPr>
          <a:xfrm>
            <a:off x="380880" y="3067200"/>
            <a:ext cx="8331480" cy="6397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Hierarchical Value Update Examp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AutoShape 2"/>
          <p:cNvSpPr/>
          <p:nvPr/>
        </p:nvSpPr>
        <p:spPr>
          <a:xfrm>
            <a:off x="3276720" y="4572000"/>
            <a:ext cx="38862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Lei Liang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Ericsson AB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December, 201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2895480" y="3809880"/>
            <a:ext cx="3591000" cy="5065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 fontScale="9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1"/>
          <p:cNvSpPr/>
          <p:nvPr/>
        </p:nvSpPr>
        <p:spPr>
          <a:xfrm>
            <a:off x="236520" y="220680"/>
            <a:ext cx="86868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erarchical Value Upd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pdate all parameters which matches to a given name pattern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"/>
          <p:cNvSpPr/>
          <p:nvPr/>
        </p:nvSpPr>
        <p:spPr>
          <a:xfrm>
            <a:off x="838080" y="1143000"/>
            <a:ext cx="762012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c_ma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1447920" y="1752480"/>
            <a:ext cx="198108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m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5943600" y="1752480"/>
            <a:ext cx="190512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fg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rget of this module is to update all parameters whose name matches the pattern “log_level” and in this example they ar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sub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1752480" y="3048120"/>
            <a:ext cx="1600200" cy="220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b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Folded Corner 41"/>
          <p:cNvSpPr/>
          <p:nvPr/>
        </p:nvSpPr>
        <p:spPr>
          <a:xfrm>
            <a:off x="1917720" y="21718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Folded Corner 41"/>
          <p:cNvSpPr/>
          <p:nvPr/>
        </p:nvSpPr>
        <p:spPr>
          <a:xfrm>
            <a:off x="1917720" y="24382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Folded Corner 41"/>
          <p:cNvSpPr/>
          <p:nvPr/>
        </p:nvSpPr>
        <p:spPr>
          <a:xfrm>
            <a:off x="1917720" y="270504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ight Brace 5"/>
          <p:cNvSpPr/>
          <p:nvPr/>
        </p:nvSpPr>
        <p:spPr>
          <a:xfrm>
            <a:off x="3365640" y="2192400"/>
            <a:ext cx="291960" cy="723960"/>
          </a:xfrm>
          <a:custGeom>
            <a:avLst/>
            <a:gdLst>
              <a:gd name="textAreaLeft" fmla="*/ 0 w 291960"/>
              <a:gd name="textAreaRight" fmla="*/ 105480 w 29196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3563640" y="2414520"/>
            <a:ext cx="188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im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Folded Corner 41"/>
          <p:cNvSpPr/>
          <p:nvPr/>
        </p:nvSpPr>
        <p:spPr>
          <a:xfrm>
            <a:off x="1854360" y="444168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Folded Corner 41"/>
          <p:cNvSpPr/>
          <p:nvPr/>
        </p:nvSpPr>
        <p:spPr>
          <a:xfrm>
            <a:off x="1854360" y="470844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Folded Corner 41"/>
          <p:cNvSpPr/>
          <p:nvPr/>
        </p:nvSpPr>
        <p:spPr>
          <a:xfrm>
            <a:off x="1854360" y="497520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ight Brace 33"/>
          <p:cNvSpPr/>
          <p:nvPr/>
        </p:nvSpPr>
        <p:spPr>
          <a:xfrm>
            <a:off x="3301920" y="4462560"/>
            <a:ext cx="292320" cy="723960"/>
          </a:xfrm>
          <a:custGeom>
            <a:avLst/>
            <a:gdLst>
              <a:gd name="textAreaLeft" fmla="*/ 0 w 292320"/>
              <a:gd name="textAreaRight" fmla="*/ 105480 w 29232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TextBox 34"/>
          <p:cNvSpPr/>
          <p:nvPr/>
        </p:nvSpPr>
        <p:spPr>
          <a:xfrm>
            <a:off x="3498840" y="4684680"/>
            <a:ext cx="189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ub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3" name="Straight Arrow Connector 16"/>
          <p:cNvCxnSpPr>
            <a:stCxn id="201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4" name="Straight Arrow Connector 17"/>
          <p:cNvCxnSpPr>
            <a:stCxn id="202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5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Folded Corner 43"/>
          <p:cNvSpPr/>
          <p:nvPr/>
        </p:nvSpPr>
        <p:spPr>
          <a:xfrm>
            <a:off x="5456160" y="2112840"/>
            <a:ext cx="2468520" cy="3049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m_broker.get_param_handles(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Speech Bubble: Rectangle with Corners Rounded 10"/>
          <p:cNvSpPr/>
          <p:nvPr/>
        </p:nvSpPr>
        <p:spPr>
          <a:xfrm>
            <a:off x="6527880" y="2816280"/>
            <a:ext cx="2539800" cy="145080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n printed the value for all parameters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Straight Arrow Connector 16"/>
          <p:cNvCxnSpPr>
            <a:stCxn id="209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2" name="Straight Arrow Connector 17"/>
          <p:cNvCxnSpPr>
            <a:stCxn id="210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3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Folded Corner 43"/>
          <p:cNvSpPr/>
          <p:nvPr/>
        </p:nvSpPr>
        <p:spPr>
          <a:xfrm>
            <a:off x="5105520" y="2112840"/>
            <a:ext cx="3276360" cy="478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ci::cci_param_filter_iterator log_level_pfi =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broker.get_param_handles(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red_it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Speech Bubble: Rectangle with Corners Rounded 10"/>
          <p:cNvSpPr/>
          <p:nvPr/>
        </p:nvSpPr>
        <p:spPr>
          <a:xfrm>
            <a:off x="6508800" y="2895480"/>
            <a:ext cx="2539800" cy="115416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predicate function to get all parameter which match the name pattern “log_level” and they are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9" name="Straight Arrow Connector 16"/>
          <p:cNvCxnSpPr>
            <a:stCxn id="2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Straight Arrow Connector 17"/>
          <p:cNvCxnSpPr>
            <a:stCxn id="2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1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Folded Corner 43"/>
          <p:cNvSpPr/>
          <p:nvPr/>
        </p:nvSpPr>
        <p:spPr>
          <a:xfrm>
            <a:off x="5257800" y="2289240"/>
            <a:ext cx="3276720" cy="326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set_cci_value(target_value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Speech Bubble: Rectangle with Corners Rounded 12"/>
          <p:cNvSpPr/>
          <p:nvPr/>
        </p:nvSpPr>
        <p:spPr>
          <a:xfrm>
            <a:off x="6599160" y="3052800"/>
            <a:ext cx="2324160" cy="692280"/>
          </a:xfrm>
          <a:prstGeom prst="wedgeRoundRectCallout">
            <a:avLst>
              <a:gd name="adj1" fmla="val -37013"/>
              <a:gd name="adj2" fmla="val -10431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update parameter value to target_value(500)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Folded Corner 43"/>
          <p:cNvSpPr/>
          <p:nvPr/>
        </p:nvSpPr>
        <p:spPr>
          <a:xfrm>
            <a:off x="5257800" y="4002120"/>
            <a:ext cx="3276720" cy="434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get_nam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get_cci_valu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Speech Bubble: Rectangle with Corners Rounded 14"/>
          <p:cNvSpPr/>
          <p:nvPr/>
        </p:nvSpPr>
        <p:spPr>
          <a:xfrm>
            <a:off x="6599160" y="4905360"/>
            <a:ext cx="2324160" cy="917640"/>
          </a:xfrm>
          <a:prstGeom prst="wedgeRoundRectCallout">
            <a:avLst>
              <a:gd name="adj1" fmla="val -37013"/>
              <a:gd name="adj2" fmla="val -9511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print parameter value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3_Hierarchical_Value_Updat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0880" y="1514160"/>
            <a:ext cx="86868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parameters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Update all 'log_Level' parameters' value to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6:03:05Z</dcterms:modified>
  <cp:revision>85</cp:revision>
  <dc:subject/>
  <dc:title>ex20_Tracing_Parameter_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6:03:05Z</vt:lpwstr>
  </property>
  <property fmtid="{D5CDD505-2E9C-101B-9397-08002B2CF9AE}" pid="5" name="TitusGUID">
    <vt:lpwstr>522d689a-30a7-4b0c-9d2d-5977e3992383</vt:lpwstr>
  </property>
</Properties>
</file>