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F668-27EE-4FA5-B891-0C792DB2C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E195-D56D-4312-B5C8-671C6F0FB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0A30-B282-4006-99E0-24A02379E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4299-DB8E-4250-9F00-DF037DB19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B5EC-0CC5-4362-B035-037C6E89C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59CD-F03B-4A2C-93B3-70C8AA0FF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182E-88F8-4D3B-B344-DA720C0ABD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E0EB3-A769-4725-825B-A9BBEC8C5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0B1BB-D1C5-4887-99E4-D19457699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F15E-A818-4FCB-A985-8D1AE7FCB7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8641-966E-4095-ABC8-9AC1F01477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4B3C-797D-4586-9F3E-2C756D5F1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64D57-3B40-498B-95E9-777307405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E55D0-1000-460B-B1F4-0D7BE4B9D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4D221-5C27-4DB1-944B-C9165AC90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F7463-7A1B-4DDB-B263-F7629F309F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97B24-D708-4CFE-8B42-FA31F5751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66592-1DD1-4E39-BADF-A6F80021C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FE5A-AEA3-4E2B-97A7-B1C2A6F64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Destruction Resurrection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Resurrection of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464840"/>
            <a:ext cx="86868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a parameter is destructed, all handles to that parameter are no longer valid and should not be u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ameter can be resurrected by the owner module and can be initialized to a new valu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akes the parameter handle valid again and usage can resu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that a parameter can be resurrected from the owner module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43160" y="36482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19040" y="4815000"/>
            <a:ext cx="1486440" cy="155160"/>
            <a:chOff x="3119040" y="48150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40280" y="48150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19040" y="49665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27040" y="3741840"/>
            <a:ext cx="15573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43160" y="4361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157560" y="1776240"/>
            <a:ext cx="2722680" cy="2970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*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2"/>
          <p:cNvSpPr/>
          <p:nvPr/>
        </p:nvSpPr>
        <p:spPr>
          <a:xfrm>
            <a:off x="3205080" y="4452840"/>
            <a:ext cx="1629000" cy="282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Folded Corner 42"/>
          <p:cNvSpPr/>
          <p:nvPr/>
        </p:nvSpPr>
        <p:spPr>
          <a:xfrm>
            <a:off x="3230640" y="3581280"/>
            <a:ext cx="336708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handle.set_cci_value(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Folded Corner 26"/>
          <p:cNvSpPr/>
          <p:nvPr/>
        </p:nvSpPr>
        <p:spPr>
          <a:xfrm>
            <a:off x="1432080" y="308772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1" name="Straight Arrow Connector 39"/>
          <p:cNvCxnSpPr/>
          <p:nvPr/>
        </p:nvCxnSpPr>
        <p:spPr>
          <a:xfrm flipH="1" flipV="1">
            <a:off x="3118680" y="39780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Folded Corner 42"/>
          <p:cNvSpPr/>
          <p:nvPr/>
        </p:nvSpPr>
        <p:spPr>
          <a:xfrm>
            <a:off x="3230640" y="266544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14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5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" name="Straight Arrow Connector 16"/>
          <p:cNvCxnSpPr>
            <a:stCxn id="1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Straight Arrow Connector 17"/>
          <p:cNvCxnSpPr>
            <a:stCxn id="1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TextBox 27"/>
          <p:cNvSpPr/>
          <p:nvPr/>
        </p:nvSpPr>
        <p:spPr>
          <a:xfrm>
            <a:off x="443520" y="17762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5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28"/>
          <p:cNvSpPr/>
          <p:nvPr/>
        </p:nvSpPr>
        <p:spPr>
          <a:xfrm>
            <a:off x="443160" y="3659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9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Folded Corner 42"/>
          <p:cNvSpPr/>
          <p:nvPr/>
        </p:nvSpPr>
        <p:spPr>
          <a:xfrm>
            <a:off x="3287880" y="3716280"/>
            <a:ext cx="1457280" cy="284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new valu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6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Folded Corner 42"/>
          <p:cNvSpPr/>
          <p:nvPr/>
        </p:nvSpPr>
        <p:spPr>
          <a:xfrm>
            <a:off x="5259240" y="1859040"/>
            <a:ext cx="2627640" cy="455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 that the parameter handle of sim_ip.int_param is now inval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Folded Corner 26"/>
          <p:cNvSpPr/>
          <p:nvPr/>
        </p:nvSpPr>
        <p:spPr>
          <a:xfrm>
            <a:off x="1332000" y="3087720"/>
            <a:ext cx="16826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Folded Corner 42"/>
          <p:cNvSpPr/>
          <p:nvPr/>
        </p:nvSpPr>
        <p:spPr>
          <a:xfrm>
            <a:off x="3230640" y="2587680"/>
            <a:ext cx="2452680" cy="4334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ptr = new cci_param&lt;int&gt;("int_param", -10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31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32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33" name="Folded Corner 42"/>
          <p:cNvSpPr/>
          <p:nvPr/>
        </p:nvSpPr>
        <p:spPr>
          <a:xfrm>
            <a:off x="5259240" y="3413160"/>
            <a:ext cx="2562480" cy="6062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up the sim_ip.int_param handle again and confirm its validit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Straight Arrow Connector 39"/>
          <p:cNvCxnSpPr/>
          <p:nvPr/>
        </p:nvCxnSpPr>
        <p:spPr>
          <a:xfrm flipH="1" flipV="1">
            <a:off x="3118680" y="40716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5" name="Folded Corner 26"/>
          <p:cNvSpPr/>
          <p:nvPr/>
        </p:nvSpPr>
        <p:spPr>
          <a:xfrm>
            <a:off x="1332000" y="3728880"/>
            <a:ext cx="1657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1_Param_Destruction_Resurrection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int_param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int_param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Current value of int_param is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30 ns, execute: Destroy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50 ns, execute: [EXTERNAL] Parameter handle of sim_ip.int_param is no more val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60 ns, execute: Resurrect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Parameter handle of sim_ip.int_param is valid aga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47:40Z</dcterms:modified>
  <cp:revision>170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7:40Z</vt:lpwstr>
  </property>
  <property fmtid="{D5CDD505-2E9C-101B-9397-08002B2CF9AE}" pid="5" name="TitusGUID">
    <vt:lpwstr>ea6cc5ed-1c1b-4aa0-91f1-9c2633a3b32b</vt:lpwstr>
  </property>
</Properties>
</file>