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0BB5A-75F2-45FC-9FC1-DAC1EB55C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04B9B-DAC2-4B24-A0BD-DC52DE87E5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BAE91-0DE9-449D-910A-3C9F3989A2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7C57E-4C52-41A2-B123-24197E637F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51CE4-45A2-4A3C-9AC7-0A3E794F9C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A46F8-1ED0-4BC2-8452-BAADFA535A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C0674-C46B-4419-B32C-3633B34ECB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01B29-CE87-4179-8775-319EC968B1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2B075-BEA1-4961-BF46-E12C759742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83FC3-91B3-47E3-876D-3F18465398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F0095-3303-4FBE-BA95-A56586DD61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10F6B-C223-451E-9A6A-ECB5B4E646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E8A5D-91BD-46D8-9DC3-4C25F3C7D7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DDDDA-868C-40A4-B871-2BF0F3CBDA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9CBDF-7916-4ABA-B552-C6527B0C66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6B4AF-6EB7-476B-9A4F-32CEC35223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62400-3E0F-43F9-AC99-9A8365C939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3084B-354F-4FC4-92BB-BB3DE5DD36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419E6-657B-4E92-BB00-1C50F5D33C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7277D-4059-43C5-8BD5-2659D32601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0B977-EAAD-48F0-9891-F3294D9ED6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F0018-E19A-445A-814A-BD7B3AC325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1F868-C08E-46AA-A11E-68A1EF18B0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F4235-90A0-4327-AA1F-CE2F58B145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13B85-BD5B-41C0-8338-65CA221159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70122-B01C-4D45-98BE-6729E7446B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0417D-C93C-439A-98F9-39DE132369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F2E3F-2809-4C99-A093-6646F58975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C8423-0A53-4BBB-B15B-2BFD8D21CE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48C39-9851-4AE7-B906-BC9056E5F7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9AA3B-D7B0-4545-BB5D-65E2A7EEA8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069C8-6A37-4C95-B443-EBB9816DD3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C135E-ADA4-4E3D-B237-3833267038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14AE8-B3E7-47AF-9DAF-8A1084A8DB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0D89F-26C9-4A99-AB66-1490265AFB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4D8D6-8EAB-42F2-84B3-7703306D98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99694-38D4-4D6F-99B4-38C78EBF5B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EA0B6-212F-45A7-A8E5-FCBA92A54A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3DC50-FE95-42D9-895B-76C237168F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ADBC9-8752-4D5D-A07F-268A9D9DFD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8F6E5-690A-4C1C-A144-EF4A8327020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5FB28-6011-4D15-B85F-E8CA5D2BF80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17B4C-5009-454E-81DB-700BB06D67D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9323C-564C-4E94-99F9-FB474C61DB0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D6D90-D16A-4F6F-A458-6BF167D20C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7963E-BA26-47C4-AE23-DB591FDA9C4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FA100-3F66-45D6-A1DE-F89BE73A92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74835-A94D-4985-9780-F1FEE33EB1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541C4-B371-4B89-9332-111DE691EDE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3BFDF-4BEF-49E6-AB05-F45D4DFFC50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8CA9A-381E-4804-8A52-03B14C14446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FE9DA-F42F-4446-AD9B-E9902D0FB62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BB2F3-23C7-4BC2-B5D8-D215FD9370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4775B-05B2-46EF-AE81-7A4B167874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BBB88-4F40-439A-9CB2-D94F1C974F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A78CC-310B-49D4-8024-DE37653F29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13DC7-1FB9-4C66-BD91-0EAFB56CD2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4E3EA-777E-41A4-9318-4D92E08307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63DFE-E67A-4DCB-8266-85055408D6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DC404-E1E6-4665-A618-68E400F732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BBD2BCC7-6EF8-4FAA-8CE4-0399AD5168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Tracing Parameter Activity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doubl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racing Parameter Activ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se the parameter creation callback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Report the creation and modification of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3"/>
          <p:cNvSpPr/>
          <p:nvPr/>
        </p:nvSpPr>
        <p:spPr>
          <a:xfrm>
            <a:off x="609480" y="373392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4"/>
          <p:cNvSpPr/>
          <p:nvPr/>
        </p:nvSpPr>
        <p:spPr>
          <a:xfrm>
            <a:off x="6095880" y="373392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8"/>
          <p:cNvSpPr/>
          <p:nvPr/>
        </p:nvSpPr>
        <p:spPr>
          <a:xfrm>
            <a:off x="457200" y="1066680"/>
            <a:ext cx="800100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itialize and register global broker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register_broker(new cci_utils::broker(“My Global Broker”));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class (which registers various callbacks to trace cci-parameters 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activities)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ter, 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_inst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                                    // A simple C++ Class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_owner(“param_owner”)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// 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Owner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40"/>
          <p:cNvSpPr/>
          <p:nvPr/>
        </p:nvSpPr>
        <p:spPr>
          <a:xfrm>
            <a:off x="3733920" y="2666880"/>
            <a:ext cx="1752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.cp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8" name="Straight Arrow Connector 43"/>
          <p:cNvCxnSpPr>
            <a:stCxn id="187" idx="2"/>
            <a:endCxn id="183" idx="0"/>
          </p:cNvCxnSpPr>
          <p:nvPr/>
        </p:nvCxnSpPr>
        <p:spPr>
          <a:xfrm flipH="1">
            <a:off x="2057040" y="3047760"/>
            <a:ext cx="2553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Straight Arrow Connector 45"/>
          <p:cNvCxnSpPr>
            <a:stCxn id="187" idx="2"/>
            <a:endCxn id="184" idx="0"/>
          </p:cNvCxnSpPr>
          <p:nvPr/>
        </p:nvCxnSpPr>
        <p:spPr>
          <a:xfrm>
            <a:off x="4610160" y="3047760"/>
            <a:ext cx="28202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Rectangle 46"/>
          <p:cNvSpPr/>
          <p:nvPr/>
        </p:nvSpPr>
        <p:spPr>
          <a:xfrm>
            <a:off x="228600" y="4267080"/>
            <a:ext cx="4267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few 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int&gt;    *      int_param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float&gt; *     float_param;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ake changes to their values during simul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Rectangle 47"/>
          <p:cNvSpPr/>
          <p:nvPr/>
        </p:nvSpPr>
        <p:spPr>
          <a:xfrm>
            <a:off x="4724280" y="4114800"/>
            <a:ext cx="41911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handle for the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lobal broker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callbacks for notifying creation of new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other callback by getting hold of the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handle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Straight Connector 28"/>
          <p:cNvSpPr/>
          <p:nvPr/>
        </p:nvSpPr>
        <p:spPr>
          <a:xfrm flipH="1">
            <a:off x="7237440" y="41148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Straight Connector 28"/>
          <p:cNvSpPr/>
          <p:nvPr/>
        </p:nvSpPr>
        <p:spPr>
          <a:xfrm>
            <a:off x="2286000" y="4191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ectangle 13"/>
          <p:cNvSpPr/>
          <p:nvPr/>
        </p:nvSpPr>
        <p:spPr>
          <a:xfrm>
            <a:off x="26668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2971800" y="1828800"/>
            <a:ext cx="58672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global broker 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originator observer_originator("observer"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broker_handle(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get_global_broker(observer_originator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2819520" y="3733920"/>
            <a:ext cx="624816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a callback to notify the creation of cci-parameters of the parameter_owner modules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m_broker.register_crea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bind(&amp;ex20_observer::config_new_param_callback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his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unnamed::_1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33"/>
          <p:cNvSpPr/>
          <p:nvPr/>
        </p:nvSpPr>
        <p:spPr>
          <a:xfrm>
            <a:off x="152280" y="91440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00600" y="1600200"/>
            <a:ext cx="3581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Various other callbacks registrati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2057400" y="2057400"/>
            <a:ext cx="7010280" cy="37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ithin the callback implementation of the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fig_new_param_callback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function, register other callback functions for monitoring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ad, 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activities on to the cci-parameter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// Get reference of newly created cci-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base_handle = m_broker.get_param_handle(param_handle.get_name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// Register pre-read, pre/post-write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read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read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ost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ost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743200" y="10666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28954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80880" y="1676520"/>
            <a:ext cx="44960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default value to the integer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  =  new cci::cnf::cci_param&lt;int&gt;(“int_param”, 10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4724280" y="3276720"/>
            <a:ext cx="37339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in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350532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380880" y="1752480"/>
            <a:ext cx="3048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 (arbitrary) new value to the </a:t>
            </a:r>
            <a:r>
              <a:rPr b="0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*int_param = 15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4648320" y="2362320"/>
            <a:ext cx="403848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write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st_write activity on the ‘int_param’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15"/>
          <p:cNvSpPr/>
          <p:nvPr/>
        </p:nvSpPr>
        <p:spPr>
          <a:xfrm>
            <a:off x="4191120" y="4419720"/>
            <a:ext cx="243828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75" y="2492"/>
                </a:moveTo>
                <a:lnTo>
                  <a:pt x="-5330" y="2492"/>
                </a:lnTo>
                <a:lnTo>
                  <a:pt x="-5330" y="-8688"/>
                </a:lnTo>
                <a:lnTo>
                  <a:pt x="8466" y="-21392"/>
                </a:lnTo>
              </a:path>
              <a:path w="21600" h="21600">
                <a:moveTo>
                  <a:pt x="-675" y="0"/>
                </a:moveTo>
                <a:lnTo>
                  <a:pt x="-675" y="216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re_read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 is called because value of the parameter is read within th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re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ost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380880" y="1676520"/>
            <a:ext cx="5029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reate and set default value to the float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  =  new cci::cnf::cci_param&lt;int&gt;(“float_param”, 12.345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4724280" y="3276720"/>
            <a:ext cx="38862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floa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365760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5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0_Tracing_Parameter_Activity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Creating new integer type cci-parameter with default value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Setting new value to the 'int' type param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Creating new 'double' type cci-parameter with default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1:25:28Z</dcterms:modified>
  <cp:revision>82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1:25:27Z</vt:lpwstr>
  </property>
  <property fmtid="{D5CDD505-2E9C-101B-9397-08002B2CF9AE}" pid="5" name="TitusGUID">
    <vt:lpwstr>c510a3f5-05aa-41bf-bec3-42483cac079d</vt:lpwstr>
  </property>
</Properties>
</file>