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152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FC1B1-667E-4223-ABE7-F3F6383C0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15E41-71A9-422A-BC26-310CDB9785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0F718-8508-4064-8027-138ACC2795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235C5-030F-4C92-974D-354C0A6651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39FA4-42FB-4DC3-89AC-364816F059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90C4B-2048-45A1-9A44-9CB1470826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7A09E-1D36-4CE7-805A-3E045361F3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A704A-53E6-4BAD-8F7D-761903FF16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45EF3-BE24-47BF-A14A-A7EEC6B3D3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63F14-1100-437E-BAC8-385361AD5A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06797-0B89-4014-A1F2-945860D635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044AC-6024-49F3-A9B6-7219628616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8F709-5FF6-4153-84B2-09240E166A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24390-DF87-4955-9AA9-81BEBBFB27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CCE7F-29FF-4745-918A-4DD7D2AF59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FF520-817B-4B27-8133-0D59CE1C83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D6BE0-E297-4EA8-9823-A8C5A6592C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B85E0-B2A7-438D-9755-F0B1338338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DC8E2-674B-448C-AB6E-5732FBF69C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EBC08-C547-4CB7-80CC-8761303EC4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FCB00-639D-4563-9E12-D9E12DC2D5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A9BAA-79D8-4998-9A41-1DFD85E669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2A580-C667-4105-942B-1637A61905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7684-A6DC-40A4-ACF7-F32D9F632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3548-2AF9-4B92-9CAB-D84EB1357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FB5D8-10A3-4D32-A64B-48598C7AE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5E61-A635-48D7-AA52-32D5CEFC8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8D2CE-6A39-4765-BA1B-D1CE8AB9B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1607-72A6-4F5F-BD8C-6FE50178E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24CB-4C01-4547-882E-F52BE8A2A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4D9B-2E0A-40B1-9E34-6E63AE453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31E4-16DE-4C9F-8821-9437B2675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FF304-6192-48AB-AA4D-8EE9DE73D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39F44-F479-4827-8DC8-EF1CC2155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4821-8238-476B-B1C9-31DA9BA57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58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8E16B-6F7E-489F-B74C-DCBC8663FB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780000" y="5157720"/>
            <a:ext cx="4464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arameter Value Locking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141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Unlocking parameter (locked earlier)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is not locked!! Assign a new value '3' to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Un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ed with password (password not known to OWN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Set parameter value to '4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cfgr.run_mutable_cfgr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Now, unlock with the correc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Directly lock the unlocked parameter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Overwrite value of the (locked!) parameter to 4 without unloc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s of this example are to demonstrate  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ing and unlocking parameter valu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the rejection of an attempt to modify a locked parameter’s valu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863640" indent="-432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te: locking and unlocking is shown a context different than for structural parameters, already shown in Example 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304920" y="-32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987560" y="1049400"/>
          <a:ext cx="4948200" cy="2566800"/>
        </p:xfrm>
        <a:graphic>
          <a:graphicData uri="http://schemas.openxmlformats.org/drawingml/2006/table">
            <a:tbl>
              <a:tblPr/>
              <a:tblGrid>
                <a:gridCol w="3124080"/>
                <a:gridCol w="18241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dic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Tr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Fal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3333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formation: In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W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Exception Thrown : Err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132" name="AutoShape 47"/>
          <p:cNvSpPr/>
          <p:nvPr/>
        </p:nvSpPr>
        <p:spPr>
          <a:xfrm>
            <a:off x="770040" y="4114800"/>
            <a:ext cx="7543800" cy="18288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Kindly note that the above legend has not been used to demonstrat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API'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(used for querying a CCI parameter's locking status) statu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age :  int_param_handle.locked(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” API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a parameter is in locked state and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in unlocked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304920" y="0"/>
            <a:ext cx="883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96840" y="4822920"/>
            <a:ext cx="2563920" cy="7398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11560" y="4572000"/>
            <a:ext cx="180324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0" y="3459240"/>
            <a:ext cx="18288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33720" y="1905120"/>
            <a:ext cx="1981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69920" y="5486400"/>
            <a:ext cx="5195880" cy="56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NOTE :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mechanism to catch the err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64960" y="2263680"/>
            <a:ext cx="214344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fault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8120" y="16002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181480" y="2021040"/>
            <a:ext cx="3843360" cy="88884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ssign the int_param_handle from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13268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92232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638680" y="966960"/>
            <a:ext cx="3468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192240" y="3795840"/>
            <a:ext cx="2322360" cy="69984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3513240" y="2895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3494160" y="1398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64960" y="3112920"/>
            <a:ext cx="116712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1" name="AutoShape 18"/>
          <p:cNvCxnSpPr>
            <a:stCxn id="140" idx="3"/>
            <a:endCxn id="148" idx="1"/>
          </p:cNvCxnSpPr>
          <p:nvPr/>
        </p:nvCxnSpPr>
        <p:spPr>
          <a:xfrm flipV="1">
            <a:off x="2408400" y="1680480"/>
            <a:ext cx="10864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19"/>
          <p:cNvCxnSpPr>
            <a:stCxn id="146" idx="3"/>
            <a:endCxn id="147" idx="1"/>
          </p:cNvCxnSpPr>
          <p:nvPr/>
        </p:nvCxnSpPr>
        <p:spPr>
          <a:xfrm flipV="1">
            <a:off x="2514600" y="3177720"/>
            <a:ext cx="999000" cy="9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0"/>
          <p:cNvCxnSpPr>
            <a:stCxn id="135" idx="3"/>
            <a:endCxn id="150" idx="1"/>
          </p:cNvCxnSpPr>
          <p:nvPr/>
        </p:nvCxnSpPr>
        <p:spPr>
          <a:xfrm flipV="1">
            <a:off x="2660760" y="4320360"/>
            <a:ext cx="85464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21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665520" y="3843360"/>
            <a:ext cx="2278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382920" y="1989000"/>
            <a:ext cx="2286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28600" y="3962520"/>
            <a:ext cx="3429000" cy="6109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5572080" y="914400"/>
            <a:ext cx="35355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5607000" y="2033640"/>
            <a:ext cx="3429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2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772400" y="159696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2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79252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2971800" y="30718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8" name="AutoShape 13"/>
          <p:cNvCxnSpPr>
            <a:stCxn id="163" idx="1"/>
            <a:endCxn id="166" idx="2"/>
          </p:cNvCxnSpPr>
          <p:nvPr/>
        </p:nvCxnSpPr>
        <p:spPr>
          <a:xfrm flipH="1" flipV="1">
            <a:off x="4168080" y="1934280"/>
            <a:ext cx="143892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14"/>
          <p:cNvSpPr/>
          <p:nvPr/>
        </p:nvSpPr>
        <p:spPr>
          <a:xfrm>
            <a:off x="819000" y="2286000"/>
            <a:ext cx="3294360" cy="5716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 has to be unlocked by the OWNER (the module that locked it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" name="AutoShape 15"/>
          <p:cNvCxnSpPr>
            <a:stCxn id="159" idx="3"/>
            <a:endCxn id="167" idx="2"/>
          </p:cNvCxnSpPr>
          <p:nvPr/>
        </p:nvCxnSpPr>
        <p:spPr>
          <a:xfrm flipV="1">
            <a:off x="3657240" y="3634920"/>
            <a:ext cx="693000" cy="63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AutoShape 16"/>
          <p:cNvSpPr/>
          <p:nvPr/>
        </p:nvSpPr>
        <p:spPr>
          <a:xfrm>
            <a:off x="320760" y="3254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801960" y="5321160"/>
            <a:ext cx="22860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6172200" y="5205240"/>
            <a:ext cx="2708280" cy="8319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et_cci_value(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cci::cci_value(3)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2860560" y="4711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5" name="AutoShape 20"/>
          <p:cNvCxnSpPr>
            <a:stCxn id="173" idx="1"/>
            <a:endCxn id="174" idx="2"/>
          </p:cNvCxnSpPr>
          <p:nvPr/>
        </p:nvCxnSpPr>
        <p:spPr>
          <a:xfrm flipH="1" flipV="1">
            <a:off x="4236480" y="5273280"/>
            <a:ext cx="19342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AutoShape 21"/>
          <p:cNvSpPr/>
          <p:nvPr/>
        </p:nvSpPr>
        <p:spPr>
          <a:xfrm>
            <a:off x="7520040" y="4586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7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3200400" y="202104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715000" y="1992240"/>
            <a:ext cx="3321000" cy="7765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out password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1460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6" name="AutoShape 9"/>
          <p:cNvCxnSpPr>
            <a:stCxn id="183" idx="1"/>
            <a:endCxn id="185" idx="2"/>
          </p:cNvCxnSpPr>
          <p:nvPr/>
        </p:nvCxnSpPr>
        <p:spPr>
          <a:xfrm flipH="1" flipV="1">
            <a:off x="3890160" y="1934280"/>
            <a:ext cx="1823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10"/>
          <p:cNvSpPr/>
          <p:nvPr/>
        </p:nvSpPr>
        <p:spPr>
          <a:xfrm>
            <a:off x="2948040" y="335448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486400" y="3402000"/>
            <a:ext cx="3549600" cy="6858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503440" y="26370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" name="AutoShape 13"/>
          <p:cNvCxnSpPr>
            <a:stCxn id="188" idx="1"/>
            <a:endCxn id="189" idx="2"/>
          </p:cNvCxnSpPr>
          <p:nvPr/>
        </p:nvCxnSpPr>
        <p:spPr>
          <a:xfrm flipH="1" flipV="1">
            <a:off x="3879000" y="3199680"/>
            <a:ext cx="16074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14"/>
          <p:cNvSpPr/>
          <p:nvPr/>
        </p:nvSpPr>
        <p:spPr>
          <a:xfrm>
            <a:off x="2792520" y="475776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646600" y="4878360"/>
            <a:ext cx="338940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psswd = NULL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2327400" y="395604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1922400" y="5197320"/>
            <a:ext cx="3114720" cy="5050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now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5" name="AutoShape 18"/>
          <p:cNvCxnSpPr>
            <a:stCxn id="192" idx="1"/>
            <a:endCxn id="193" idx="2"/>
          </p:cNvCxnSpPr>
          <p:nvPr/>
        </p:nvCxnSpPr>
        <p:spPr>
          <a:xfrm flipH="1" flipV="1">
            <a:off x="3704400" y="4518720"/>
            <a:ext cx="194220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811600" y="216072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419640" y="3200400"/>
            <a:ext cx="5630760" cy="29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Error: 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327400" y="140976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715000" y="1854360"/>
            <a:ext cx="3321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4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" name="AutoShape 10"/>
          <p:cNvCxnSpPr>
            <a:stCxn id="205" idx="1"/>
            <a:endCxn id="204" idx="2"/>
          </p:cNvCxnSpPr>
          <p:nvPr/>
        </p:nvCxnSpPr>
        <p:spPr>
          <a:xfrm flipH="1" flipV="1">
            <a:off x="3702960" y="1974600"/>
            <a:ext cx="201204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AutoShape 11"/>
          <p:cNvSpPr/>
          <p:nvPr/>
        </p:nvSpPr>
        <p:spPr>
          <a:xfrm>
            <a:off x="808200" y="2460600"/>
            <a:ext cx="3114360" cy="50472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865600" y="472140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257800" y="4805280"/>
            <a:ext cx="3708360" cy="909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 correc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255760" y="39196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AutoShape 16"/>
          <p:cNvCxnSpPr>
            <a:stCxn id="209" idx="1"/>
            <a:endCxn id="210" idx="2"/>
          </p:cNvCxnSpPr>
          <p:nvPr/>
        </p:nvCxnSpPr>
        <p:spPr>
          <a:xfrm flipH="1" flipV="1">
            <a:off x="3633120" y="4482720"/>
            <a:ext cx="16246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5562720" y="914400"/>
            <a:ext cx="34686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8024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5909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25800" y="4246560"/>
            <a:ext cx="19558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90960" y="2462040"/>
            <a:ext cx="20001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63600" y="1687680"/>
            <a:ext cx="1187280" cy="468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1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263520" y="2479680"/>
            <a:ext cx="3200400" cy="936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key = NULL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3767040" y="165096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99880" y="4187880"/>
            <a:ext cx="305604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ride parameter value to 4 without unlock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set(4, 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38680" y="3487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5" name="AutoShape 13"/>
          <p:cNvCxnSpPr>
            <a:stCxn id="221" idx="3"/>
            <a:endCxn id="222" idx="2"/>
          </p:cNvCxnSpPr>
          <p:nvPr/>
        </p:nvCxnSpPr>
        <p:spPr>
          <a:xfrm flipV="1">
            <a:off x="3463920" y="2214000"/>
            <a:ext cx="168048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4"/>
          <p:cNvCxnSpPr>
            <a:stCxn id="223" idx="3"/>
            <a:endCxn id="224" idx="2"/>
          </p:cNvCxnSpPr>
          <p:nvPr/>
        </p:nvCxnSpPr>
        <p:spPr>
          <a:xfrm flipV="1">
            <a:off x="3355920" y="4050720"/>
            <a:ext cx="18597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3_Parameter_Locking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Locking the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Try to set parameter value to 1 from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_own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iled to set parameter value to 1 from 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owner.run_owner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 Cannot assign new value to the parameter as it is already locked!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43:06Z</dcterms:modified>
  <cp:revision>26</cp:revision>
  <dc:subject/>
  <dc:title>ex13_Parameter_Value_Lo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43:05Z</vt:lpwstr>
  </property>
  <property fmtid="{D5CDD505-2E9C-101B-9397-08002B2CF9AE}" pid="5" name="TitusGUID">
    <vt:lpwstr>f341ef4f-c913-43a5-ba57-f9d7ac14d2c0</vt:lpwstr>
  </property>
</Properties>
</file>