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B8DDB-784A-445D-8BC0-DC3CFCDEF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4B169-162F-454F-B2BD-56D932CF72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7E9D0-D39D-4081-BBB2-A9B85BCD11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19DD8-771A-4725-8968-B6221EE2DB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214C0-9295-43E6-9AC5-288BA291DF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62277-9ED3-4CFE-BDE1-709098D814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4B8F1-01BA-4020-869A-D7C6D279F6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351BF-60AD-455D-BBC7-E6210F4E9E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6D671-44BE-4229-BB1B-B965A3D320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AF5D7-6318-4E60-B311-16F84FB4A8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CD6BB-0B87-4597-95E5-C51A3CBAAE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54085-86C9-4382-82C3-BE16325AC4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D4886-0B9E-4706-AF19-FAFC503AD1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53F78-B13B-4710-8CE0-08EB180733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7A013-00B2-4DCA-BC79-46839E2171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FA785-3227-45A0-B764-CE3163BD8E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EFD2B-9673-4EC6-B7CF-BE8DE14E8C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D8168-4EE9-4610-8D4A-A6E8D2E568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8D7DF-AF3A-4ED5-B22D-3CCD49E5AA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6BC16-9BBD-4C09-AD3B-D543535370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6953A-7FEA-48FB-9E3A-DADA16D7DD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90DB4-387F-4179-A1A3-64D7695ECC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A8EEA-74D9-408A-9766-F4E9AFCA5A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4238A-299F-43EC-B69B-F987CFF379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981E5-142B-44A1-B0EF-B61201627E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7706F-9DEB-4EB8-A658-454701A7DA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D5AE5-0517-47C4-9F22-1690AF0674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B8696-B7F9-47A9-B63C-99C41A96E3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098B4-3A05-4DDD-9099-CE4A2F685B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78366-8F5D-46F5-A322-B3D394A35F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AF15B-A3F4-4958-992C-4D84DBC537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E801-DE64-4446-AF5B-F5A044893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56ECD-CB76-48A7-91B3-891A6FB5E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EDE32-C1DA-413B-BB9E-F777890C6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E031A-B482-4094-9423-2A042784D2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56B4D-4001-42B8-A8DC-7B4055E8C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980B5-1C3D-4205-8ADF-817B3DACD5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032EE-A720-41FD-9765-844C2D753F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4F6C6-919D-4A88-AD5D-81D8CF4A66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E711A-1CA9-4CF1-9D9B-E82C312793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4EF70-7AD8-4E91-ADEB-8F87936764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FFADE-A20C-476A-9211-28C5F92EA6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BECB3-5279-4F21-AB6E-71D0594EA3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C2FC4-12E6-428F-AD6A-855C11FFF8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FBCAF-D1FA-42B9-B6D0-976C93B3E8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1497D-38AC-4F8D-A433-16EF914F23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AA0B8-5ABB-4F0D-99AE-A907CE1B0B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2EF50-09EB-41A8-A80B-9A2F7A60D2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C758C-7C52-4220-83CB-0CDA4C228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7CA92-5A37-4B85-ACC6-C4D15EEE31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338C4-EE6A-4D27-9018-DCC94EB11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ED897-F088-4486-A7F2-41FBC62AB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9CF2E-59F0-4700-BEEB-A958C524B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50D57-866B-43D2-8B26-98C9D98E5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DF038-82D7-4B56-87FC-1C8246C6E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A75D1-C416-4629-959F-9A069A3B30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498FA487-2768-46A9-84B9-5C0E3694A6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657600" y="5105520"/>
            <a:ext cx="4800600" cy="119988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Indirectly Associating Parameter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 translation (e.g. units) is demonstrated  between the associated parameter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30492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In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1981080" y="1143000"/>
            <a:ext cx="5410440" cy="1066680"/>
            <a:chOff x="1981080" y="1143000"/>
            <a:chExt cx="5410440" cy="1066680"/>
          </a:xfrm>
        </p:grpSpPr>
        <p:sp>
          <p:nvSpPr>
            <p:cNvPr id="188" name="AutoShape 23"/>
            <p:cNvSpPr/>
            <p:nvPr/>
          </p:nvSpPr>
          <p:spPr>
            <a:xfrm>
              <a:off x="1981080" y="1143000"/>
              <a:ext cx="5410440" cy="685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the handles of the of the owner modules’ parameters with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he configuration broker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200400" y="1838160"/>
              <a:ext cx="236232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220760" y="320040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220760" y="371016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6200" y="236232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48"/>
          <p:cNvGrpSpPr/>
          <p:nvPr/>
        </p:nvGrpSpPr>
        <p:grpSpPr>
          <a:xfrm>
            <a:off x="609480" y="3048120"/>
            <a:ext cx="7925040" cy="1403280"/>
            <a:chOff x="609480" y="3048120"/>
            <a:chExt cx="7925040" cy="1403280"/>
          </a:xfrm>
        </p:grpSpPr>
        <p:sp>
          <p:nvSpPr>
            <p:cNvPr id="210" name="AutoShape 23"/>
            <p:cNvSpPr/>
            <p:nvPr/>
          </p:nvSpPr>
          <p:spPr>
            <a:xfrm>
              <a:off x="609480" y="3048120"/>
              <a:ext cx="7925040" cy="9903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62240" y="4146480"/>
              <a:ext cx="2743200" cy="304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_with_cf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2762640" y="1331640"/>
            <a:ext cx="4152240" cy="878040"/>
            <a:chOff x="2762640" y="1331640"/>
            <a:chExt cx="4152240" cy="878040"/>
          </a:xfrm>
        </p:grpSpPr>
        <p:sp>
          <p:nvSpPr>
            <p:cNvPr id="214" name="AutoShape 23"/>
            <p:cNvSpPr/>
            <p:nvPr/>
          </p:nvSpPr>
          <p:spPr>
            <a:xfrm>
              <a:off x="2762640" y="1331640"/>
              <a:ext cx="415224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parameter hand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352680" y="1837800"/>
              <a:ext cx="2362320" cy="3718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379240" y="2437560"/>
            <a:ext cx="491904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parameters using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_cf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2895480" y="3200400"/>
            <a:ext cx="541044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write it’s default valu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o the other cci-parameter using set_cci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762120" y="320040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th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artup value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4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1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2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3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4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5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6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7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48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49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0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1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2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3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4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AutoShape 23"/>
          <p:cNvSpPr/>
          <p:nvPr/>
        </p:nvSpPr>
        <p:spPr>
          <a:xfrm>
            <a:off x="667080" y="3351600"/>
            <a:ext cx="79621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677880" y="2308320"/>
            <a:ext cx="7856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the values of parameter of the two own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WithCF(cci::cci_param_handle _param_handle_1, cci::cci_param_handle _param_handle_2,  double conversion_factor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58" name="Curved Connector 10"/>
          <p:cNvCxnSpPr>
            <a:stCxn id="254" idx="0"/>
            <a:endCxn id="255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59" name="AutoShape 6"/>
          <p:cNvSpPr/>
          <p:nvPr/>
        </p:nvSpPr>
        <p:spPr>
          <a:xfrm>
            <a:off x="3298680" y="4143240"/>
            <a:ext cx="251316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0" name="Curved Connector 10"/>
          <p:cNvCxnSpPr>
            <a:stCxn id="261" idx="4"/>
            <a:endCxn id="245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2" name="Group 54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3" name="AutoShape 15"/>
            <p:cNvSpPr/>
            <p:nvPr/>
          </p:nvSpPr>
          <p:spPr>
            <a:xfrm>
              <a:off x="6934320" y="464832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1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4" name="Rectangle 53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6" name="Group 40"/>
          <p:cNvGrpSpPr/>
          <p:nvPr/>
        </p:nvGrpSpPr>
        <p:grpSpPr>
          <a:xfrm>
            <a:off x="2147760" y="1121760"/>
            <a:ext cx="4772520" cy="876960"/>
            <a:chOff x="2147760" y="1121760"/>
            <a:chExt cx="4772520" cy="876960"/>
          </a:xfrm>
        </p:grpSpPr>
        <p:sp>
          <p:nvSpPr>
            <p:cNvPr id="267" name="AutoShape 5"/>
            <p:cNvSpPr/>
            <p:nvPr/>
          </p:nvSpPr>
          <p:spPr>
            <a:xfrm>
              <a:off x="3374640" y="1622160"/>
              <a:ext cx="2362680" cy="3765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8" name="AutoShape 23"/>
            <p:cNvSpPr/>
            <p:nvPr/>
          </p:nvSpPr>
          <p:spPr>
            <a:xfrm>
              <a:off x="2147760" y="1121760"/>
              <a:ext cx="477252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handles of the parameter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58"/>
          <p:cNvGrpSpPr/>
          <p:nvPr/>
        </p:nvGrpSpPr>
        <p:grpSpPr>
          <a:xfrm>
            <a:off x="76320" y="3274920"/>
            <a:ext cx="8961480" cy="2551320"/>
            <a:chOff x="76320" y="3274920"/>
            <a:chExt cx="8961480" cy="2551320"/>
          </a:xfrm>
        </p:grpSpPr>
        <p:grpSp>
          <p:nvGrpSpPr>
            <p:cNvPr id="270" name="Group 49"/>
            <p:cNvGrpSpPr/>
            <p:nvPr/>
          </p:nvGrpSpPr>
          <p:grpSpPr>
            <a:xfrm>
              <a:off x="76320" y="3274920"/>
              <a:ext cx="8961480" cy="2551320"/>
              <a:chOff x="76320" y="3274920"/>
              <a:chExt cx="8961480" cy="25513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4920"/>
                <a:ext cx="8961480" cy="2551320"/>
                <a:chOff x="76320" y="3274920"/>
                <a:chExt cx="8961480" cy="25513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4920"/>
                  <a:ext cx="8961480" cy="2551320"/>
                  <a:chOff x="76320" y="3274920"/>
                  <a:chExt cx="8961480" cy="2551320"/>
                </a:xfrm>
              </p:grpSpPr>
              <p:grpSp>
                <p:nvGrpSpPr>
                  <p:cNvPr id="273" name="Group 1"/>
                  <p:cNvGrpSpPr/>
                  <p:nvPr/>
                </p:nvGrpSpPr>
                <p:grpSpPr>
                  <a:xfrm>
                    <a:off x="76320" y="3274920"/>
                    <a:ext cx="8961480" cy="2551320"/>
                    <a:chOff x="76320" y="3274920"/>
                    <a:chExt cx="8961480" cy="2551320"/>
                  </a:xfrm>
                </p:grpSpPr>
                <p:sp>
                  <p:nvSpPr>
                    <p:cNvPr id="274" name="AutoShape 3"/>
                    <p:cNvSpPr/>
                    <p:nvPr/>
                  </p:nvSpPr>
                  <p:spPr>
                    <a:xfrm>
                      <a:off x="76320" y="327492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5" name="AutoShape 8"/>
                    <p:cNvSpPr/>
                    <p:nvPr/>
                  </p:nvSpPr>
                  <p:spPr>
                    <a:xfrm>
                      <a:off x="3789360" y="53161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6" name="Group 32"/>
                  <p:cNvGrpSpPr/>
                  <p:nvPr/>
                </p:nvGrpSpPr>
                <p:grpSpPr>
                  <a:xfrm>
                    <a:off x="304920" y="4070520"/>
                    <a:ext cx="4030560" cy="963360"/>
                    <a:chOff x="304920" y="4070520"/>
                    <a:chExt cx="4030560" cy="963360"/>
                  </a:xfrm>
                </p:grpSpPr>
                <p:grpSp>
                  <p:nvGrpSpPr>
                    <p:cNvPr id="277" name="Group 29"/>
                    <p:cNvGrpSpPr/>
                    <p:nvPr/>
                  </p:nvGrpSpPr>
                  <p:grpSpPr>
                    <a:xfrm>
                      <a:off x="304920" y="4070520"/>
                      <a:ext cx="4030560" cy="523800"/>
                      <a:chOff x="304920" y="4070520"/>
                      <a:chExt cx="4030560" cy="523800"/>
                    </a:xfrm>
                  </p:grpSpPr>
                  <p:sp>
                    <p:nvSpPr>
                      <p:cNvPr id="278" name="AutoShape 11"/>
                      <p:cNvSpPr/>
                      <p:nvPr/>
                    </p:nvSpPr>
                    <p:spPr>
                      <a:xfrm>
                        <a:off x="304920" y="407052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79" name="Group 28"/>
                      <p:cNvGrpSpPr/>
                      <p:nvPr/>
                    </p:nvGrpSpPr>
                    <p:grpSpPr>
                      <a:xfrm>
                        <a:off x="449280" y="4169880"/>
                        <a:ext cx="3741840" cy="293400"/>
                        <a:chOff x="449280" y="4169880"/>
                        <a:chExt cx="3741840" cy="293400"/>
                      </a:xfrm>
                    </p:grpSpPr>
                    <p:sp>
                      <p:nvSpPr>
                        <p:cNvPr id="280" name="AutoShape 12"/>
                        <p:cNvSpPr/>
                        <p:nvPr/>
                      </p:nvSpPr>
                      <p:spPr>
                        <a:xfrm>
                          <a:off x="449280" y="416988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1" name="AutoShape 15"/>
                        <p:cNvSpPr/>
                        <p:nvPr/>
                      </p:nvSpPr>
                      <p:spPr>
                        <a:xfrm>
                          <a:off x="2362320" y="416988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2" name="AutoShape 6"/>
                    <p:cNvSpPr/>
                    <p:nvPr/>
                  </p:nvSpPr>
                  <p:spPr>
                    <a:xfrm>
                      <a:off x="122076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83" name="Group 2"/>
                  <p:cNvGrpSpPr/>
                  <p:nvPr/>
                </p:nvGrpSpPr>
                <p:grpSpPr>
                  <a:xfrm>
                    <a:off x="4419720" y="4070520"/>
                    <a:ext cx="4411440" cy="963360"/>
                    <a:chOff x="4419720" y="4070520"/>
                    <a:chExt cx="4411440" cy="963360"/>
                  </a:xfrm>
                </p:grpSpPr>
                <p:grpSp>
                  <p:nvGrpSpPr>
                    <p:cNvPr id="284" name="Group 31"/>
                    <p:cNvGrpSpPr/>
                    <p:nvPr/>
                  </p:nvGrpSpPr>
                  <p:grpSpPr>
                    <a:xfrm>
                      <a:off x="4419720" y="4070520"/>
                      <a:ext cx="4411440" cy="523800"/>
                      <a:chOff x="4419720" y="4070520"/>
                      <a:chExt cx="4411440" cy="523800"/>
                    </a:xfrm>
                  </p:grpSpPr>
                  <p:sp>
                    <p:nvSpPr>
                      <p:cNvPr id="285" name="AutoShape 11"/>
                      <p:cNvSpPr/>
                      <p:nvPr/>
                    </p:nvSpPr>
                    <p:spPr>
                      <a:xfrm>
                        <a:off x="4419720" y="407052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86" name="Group 30"/>
                      <p:cNvGrpSpPr/>
                      <p:nvPr/>
                    </p:nvGrpSpPr>
                    <p:grpSpPr>
                      <a:xfrm>
                        <a:off x="4556160" y="4145040"/>
                        <a:ext cx="4275000" cy="335160"/>
                        <a:chOff x="4556160" y="4145040"/>
                        <a:chExt cx="4275000" cy="335160"/>
                      </a:xfrm>
                    </p:grpSpPr>
                    <p:sp>
                      <p:nvSpPr>
                        <p:cNvPr id="287" name="AutoShape 12"/>
                        <p:cNvSpPr/>
                        <p:nvPr/>
                      </p:nvSpPr>
                      <p:spPr>
                        <a:xfrm>
                          <a:off x="4556160" y="414504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8" name="AutoShape 15"/>
                        <p:cNvSpPr/>
                        <p:nvPr/>
                      </p:nvSpPr>
                      <p:spPr>
                        <a:xfrm>
                          <a:off x="6850080" y="414504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9" name="AutoShape 6"/>
                    <p:cNvSpPr/>
                    <p:nvPr/>
                  </p:nvSpPr>
                  <p:spPr>
                    <a:xfrm>
                      <a:off x="571644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290" name="Oval 25"/>
                <p:cNvSpPr/>
                <p:nvPr/>
              </p:nvSpPr>
              <p:spPr>
                <a:xfrm>
                  <a:off x="380880" y="410040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91" name="Oval 26"/>
                <p:cNvSpPr/>
                <p:nvPr/>
              </p:nvSpPr>
              <p:spPr>
                <a:xfrm>
                  <a:off x="4495680" y="414648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2" name="Group 48"/>
              <p:cNvGrpSpPr/>
              <p:nvPr/>
            </p:nvGrpSpPr>
            <p:grpSpPr>
              <a:xfrm>
                <a:off x="1409400" y="3429000"/>
                <a:ext cx="4264200" cy="704880"/>
                <a:chOff x="1409400" y="3429000"/>
                <a:chExt cx="4264200" cy="704880"/>
              </a:xfrm>
            </p:grpSpPr>
            <p:cxnSp>
              <p:nvCxnSpPr>
                <p:cNvPr id="293" name="Curved Connector 10"/>
                <p:cNvCxnSpPr>
                  <a:stCxn id="290" idx="0"/>
                  <a:endCxn id="294" idx="1"/>
                </p:cNvCxnSpPr>
                <p:nvPr/>
              </p:nvCxnSpPr>
              <p:spPr>
                <a:xfrm flipH="1" flipV="1" rot="5400000">
                  <a:off x="1937160" y="305280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294" name="AutoShape 15"/>
                <p:cNvSpPr/>
                <p:nvPr/>
              </p:nvSpPr>
              <p:spPr>
                <a:xfrm>
                  <a:off x="2971800" y="342900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295" name="Curved Connector 10"/>
                <p:cNvCxnSpPr>
                  <a:stCxn id="294" idx="3"/>
                  <a:endCxn id="291" idx="0"/>
                </p:cNvCxnSpPr>
                <p:nvPr/>
              </p:nvCxnSpPr>
              <p:spPr>
                <a:xfrm>
                  <a:off x="4800240" y="358092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296" name="AutoShape 15"/>
            <p:cNvSpPr/>
            <p:nvPr/>
          </p:nvSpPr>
          <p:spPr>
            <a:xfrm>
              <a:off x="7010280" y="4191120"/>
              <a:ext cx="167652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7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8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9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0" name="Curved Connector 9"/>
          <p:cNvCxnSpPr>
            <a:stCxn id="299" idx="1"/>
            <a:endCxn id="290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1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2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3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04" name="Group 42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5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7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8" name="AutoShape 45"/>
          <p:cNvCxnSpPr>
            <a:stCxn id="294" idx="0"/>
            <a:endCxn id="307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Rectangle 6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133"/>
          <p:cNvGrpSpPr/>
          <p:nvPr/>
        </p:nvGrpSpPr>
        <p:grpSpPr>
          <a:xfrm>
            <a:off x="76320" y="3595680"/>
            <a:ext cx="8961480" cy="2592360"/>
            <a:chOff x="76320" y="3595680"/>
            <a:chExt cx="8961480" cy="2592360"/>
          </a:xfrm>
        </p:grpSpPr>
        <p:grpSp>
          <p:nvGrpSpPr>
            <p:cNvPr id="312" name="Group 102"/>
            <p:cNvGrpSpPr/>
            <p:nvPr/>
          </p:nvGrpSpPr>
          <p:grpSpPr>
            <a:xfrm>
              <a:off x="76320" y="3595680"/>
              <a:ext cx="8961480" cy="2592360"/>
              <a:chOff x="76320" y="3595680"/>
              <a:chExt cx="8961480" cy="2592360"/>
            </a:xfrm>
          </p:grpSpPr>
          <p:grpSp>
            <p:nvGrpSpPr>
              <p:cNvPr id="313" name="Group 103"/>
              <p:cNvGrpSpPr/>
              <p:nvPr/>
            </p:nvGrpSpPr>
            <p:grpSpPr>
              <a:xfrm>
                <a:off x="76320" y="3595680"/>
                <a:ext cx="8961480" cy="2592360"/>
                <a:chOff x="76320" y="3595680"/>
                <a:chExt cx="8961480" cy="2592360"/>
              </a:xfrm>
            </p:grpSpPr>
            <p:grpSp>
              <p:nvGrpSpPr>
                <p:cNvPr id="314" name="Group 104"/>
                <p:cNvGrpSpPr/>
                <p:nvPr/>
              </p:nvGrpSpPr>
              <p:grpSpPr>
                <a:xfrm>
                  <a:off x="76320" y="3595680"/>
                  <a:ext cx="8961480" cy="2592360"/>
                  <a:chOff x="76320" y="3595680"/>
                  <a:chExt cx="8961480" cy="2592360"/>
                </a:xfrm>
              </p:grpSpPr>
              <p:grpSp>
                <p:nvGrpSpPr>
                  <p:cNvPr id="315" name="Group 1"/>
                  <p:cNvGrpSpPr/>
                  <p:nvPr/>
                </p:nvGrpSpPr>
                <p:grpSpPr>
                  <a:xfrm>
                    <a:off x="76320" y="3595680"/>
                    <a:ext cx="8961480" cy="2592360"/>
                    <a:chOff x="76320" y="3595680"/>
                    <a:chExt cx="8961480" cy="2592360"/>
                  </a:xfrm>
                </p:grpSpPr>
                <p:sp>
                  <p:nvSpPr>
                    <p:cNvPr id="316" name="AutoShape 3"/>
                    <p:cNvSpPr/>
                    <p:nvPr/>
                  </p:nvSpPr>
                  <p:spPr>
                    <a:xfrm>
                      <a:off x="76320" y="359568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7" name="AutoShape 8"/>
                    <p:cNvSpPr/>
                    <p:nvPr/>
                  </p:nvSpPr>
                  <p:spPr>
                    <a:xfrm>
                      <a:off x="3466440" y="56779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18" name="Group 32"/>
                  <p:cNvGrpSpPr/>
                  <p:nvPr/>
                </p:nvGrpSpPr>
                <p:grpSpPr>
                  <a:xfrm>
                    <a:off x="304920" y="4391280"/>
                    <a:ext cx="4030560" cy="963360"/>
                    <a:chOff x="304920" y="4391280"/>
                    <a:chExt cx="4030560" cy="963360"/>
                  </a:xfrm>
                </p:grpSpPr>
                <p:grpSp>
                  <p:nvGrpSpPr>
                    <p:cNvPr id="319" name="Group 29"/>
                    <p:cNvGrpSpPr/>
                    <p:nvPr/>
                  </p:nvGrpSpPr>
                  <p:grpSpPr>
                    <a:xfrm>
                      <a:off x="304920" y="4391280"/>
                      <a:ext cx="4030560" cy="523800"/>
                      <a:chOff x="304920" y="4391280"/>
                      <a:chExt cx="4030560" cy="523800"/>
                    </a:xfrm>
                  </p:grpSpPr>
                  <p:sp>
                    <p:nvSpPr>
                      <p:cNvPr id="320" name="AutoShape 11"/>
                      <p:cNvSpPr/>
                      <p:nvPr/>
                    </p:nvSpPr>
                    <p:spPr>
                      <a:xfrm>
                        <a:off x="304920" y="439128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1" name="Group 28"/>
                      <p:cNvGrpSpPr/>
                      <p:nvPr/>
                    </p:nvGrpSpPr>
                    <p:grpSpPr>
                      <a:xfrm>
                        <a:off x="449280" y="4490640"/>
                        <a:ext cx="3741840" cy="293400"/>
                        <a:chOff x="449280" y="4490640"/>
                        <a:chExt cx="3741840" cy="293400"/>
                      </a:xfrm>
                    </p:grpSpPr>
                    <p:sp>
                      <p:nvSpPr>
                        <p:cNvPr id="322" name="AutoShape 12"/>
                        <p:cNvSpPr/>
                        <p:nvPr/>
                      </p:nvSpPr>
                      <p:spPr>
                        <a:xfrm>
                          <a:off x="449280" y="449064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3" name="AutoShape 15"/>
                        <p:cNvSpPr/>
                        <p:nvPr/>
                      </p:nvSpPr>
                      <p:spPr>
                        <a:xfrm>
                          <a:off x="2362320" y="449064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4" name="AutoShape 6"/>
                    <p:cNvSpPr/>
                    <p:nvPr/>
                  </p:nvSpPr>
                  <p:spPr>
                    <a:xfrm>
                      <a:off x="122076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25" name="Group 2"/>
                  <p:cNvGrpSpPr/>
                  <p:nvPr/>
                </p:nvGrpSpPr>
                <p:grpSpPr>
                  <a:xfrm>
                    <a:off x="4419720" y="4391280"/>
                    <a:ext cx="4411440" cy="963360"/>
                    <a:chOff x="4419720" y="4391280"/>
                    <a:chExt cx="4411440" cy="963360"/>
                  </a:xfrm>
                </p:grpSpPr>
                <p:grpSp>
                  <p:nvGrpSpPr>
                    <p:cNvPr id="326" name="Group 31"/>
                    <p:cNvGrpSpPr/>
                    <p:nvPr/>
                  </p:nvGrpSpPr>
                  <p:grpSpPr>
                    <a:xfrm>
                      <a:off x="4419720" y="4391280"/>
                      <a:ext cx="4411440" cy="523800"/>
                      <a:chOff x="4419720" y="4391280"/>
                      <a:chExt cx="4411440" cy="523800"/>
                    </a:xfrm>
                  </p:grpSpPr>
                  <p:sp>
                    <p:nvSpPr>
                      <p:cNvPr id="327" name="AutoShape 11"/>
                      <p:cNvSpPr/>
                      <p:nvPr/>
                    </p:nvSpPr>
                    <p:spPr>
                      <a:xfrm>
                        <a:off x="4419720" y="439128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8" name="Group 30"/>
                      <p:cNvGrpSpPr/>
                      <p:nvPr/>
                    </p:nvGrpSpPr>
                    <p:grpSpPr>
                      <a:xfrm>
                        <a:off x="4556160" y="4465800"/>
                        <a:ext cx="4275000" cy="335160"/>
                        <a:chOff x="4556160" y="4465800"/>
                        <a:chExt cx="4275000" cy="335160"/>
                      </a:xfrm>
                    </p:grpSpPr>
                    <p:sp>
                      <p:nvSpPr>
                        <p:cNvPr id="329" name="AutoShape 12"/>
                        <p:cNvSpPr/>
                        <p:nvPr/>
                      </p:nvSpPr>
                      <p:spPr>
                        <a:xfrm>
                          <a:off x="4556160" y="446580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30" name="AutoShape 15"/>
                        <p:cNvSpPr/>
                        <p:nvPr/>
                      </p:nvSpPr>
                      <p:spPr>
                        <a:xfrm>
                          <a:off x="6850080" y="446580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1" name="AutoShape 6"/>
                    <p:cNvSpPr/>
                    <p:nvPr/>
                  </p:nvSpPr>
                  <p:spPr>
                    <a:xfrm>
                      <a:off x="571644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332" name="Oval 25"/>
                <p:cNvSpPr/>
                <p:nvPr/>
              </p:nvSpPr>
              <p:spPr>
                <a:xfrm>
                  <a:off x="380880" y="44211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33" name="Oval 26"/>
                <p:cNvSpPr/>
                <p:nvPr/>
              </p:nvSpPr>
              <p:spPr>
                <a:xfrm>
                  <a:off x="4495680" y="446724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4" name="Group 124"/>
              <p:cNvGrpSpPr/>
              <p:nvPr/>
            </p:nvGrpSpPr>
            <p:grpSpPr>
              <a:xfrm>
                <a:off x="1409400" y="3749760"/>
                <a:ext cx="4264200" cy="704880"/>
                <a:chOff x="1409400" y="3749760"/>
                <a:chExt cx="4264200" cy="704880"/>
              </a:xfrm>
            </p:grpSpPr>
            <p:cxnSp>
              <p:nvCxnSpPr>
                <p:cNvPr id="335" name="Curved Connector 10"/>
                <p:cNvCxnSpPr>
                  <a:stCxn id="332" idx="0"/>
                  <a:endCxn id="336" idx="1"/>
                </p:cNvCxnSpPr>
                <p:nvPr/>
              </p:nvCxnSpPr>
              <p:spPr>
                <a:xfrm flipH="1" flipV="1" rot="5400000">
                  <a:off x="1937160" y="33735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36" name="AutoShape 15"/>
                <p:cNvSpPr/>
                <p:nvPr/>
              </p:nvSpPr>
              <p:spPr>
                <a:xfrm>
                  <a:off x="2971800" y="37497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37" name="Curved Connector 10"/>
                <p:cNvCxnSpPr>
                  <a:stCxn id="336" idx="3"/>
                  <a:endCxn id="333" idx="0"/>
                </p:cNvCxnSpPr>
                <p:nvPr/>
              </p:nvCxnSpPr>
              <p:spPr>
                <a:xfrm>
                  <a:off x="4800240" y="39016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38" name="AutoShape 15"/>
            <p:cNvSpPr/>
            <p:nvPr/>
          </p:nvSpPr>
          <p:spPr>
            <a:xfrm>
              <a:off x="6858000" y="44974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AutoShape 15"/>
            <p:cNvSpPr/>
            <p:nvPr/>
          </p:nvSpPr>
          <p:spPr>
            <a:xfrm>
              <a:off x="2438280" y="449568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0" name="Group 3"/>
          <p:cNvGrpSpPr/>
          <p:nvPr/>
        </p:nvGrpSpPr>
        <p:grpSpPr>
          <a:xfrm>
            <a:off x="1236600" y="1766880"/>
            <a:ext cx="6705720" cy="847800"/>
            <a:chOff x="1236600" y="1766880"/>
            <a:chExt cx="6705720" cy="847800"/>
          </a:xfrm>
        </p:grpSpPr>
        <p:sp>
          <p:nvSpPr>
            <p:cNvPr id="341" name="AutoShape 5"/>
            <p:cNvSpPr/>
            <p:nvPr/>
          </p:nvSpPr>
          <p:spPr>
            <a:xfrm>
              <a:off x="3321720" y="223740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AutoShape 23"/>
            <p:cNvSpPr/>
            <p:nvPr/>
          </p:nvSpPr>
          <p:spPr>
            <a:xfrm>
              <a:off x="1236600" y="1766880"/>
              <a:ext cx="6705720" cy="478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K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 (K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3" name="AutoShape 23"/>
          <p:cNvSpPr/>
          <p:nvPr/>
        </p:nvSpPr>
        <p:spPr>
          <a:xfrm>
            <a:off x="3732840" y="1142640"/>
            <a:ext cx="171540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44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45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8" name="Curved Connector 9"/>
          <p:cNvCxnSpPr>
            <a:stCxn id="342" idx="3"/>
            <a:endCxn id="333" idx="0"/>
          </p:cNvCxnSpPr>
          <p:nvPr/>
        </p:nvCxnSpPr>
        <p:spPr>
          <a:xfrm flipH="1">
            <a:off x="5673240" y="2006280"/>
            <a:ext cx="2269440" cy="2461320"/>
          </a:xfrm>
          <a:prstGeom prst="curvedConnector5">
            <a:avLst>
              <a:gd name="adj1" fmla="val -10058"/>
              <a:gd name="adj2" fmla="val 27428"/>
              <a:gd name="adj3" fmla="val -10058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cxnSp>
        <p:nvCxnSpPr>
          <p:cNvPr id="349" name="AutoShape 128"/>
          <p:cNvCxnSpPr>
            <a:stCxn id="336" idx="0"/>
          </p:cNvCxnSpPr>
          <p:nvPr/>
        </p:nvCxnSpPr>
        <p:spPr>
          <a:xfrm flipV="1">
            <a:off x="3886200" y="3276360"/>
            <a:ext cx="838800" cy="47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Group 38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5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53" name="Rectangle 1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2_Indirectly_Associateing_Parameters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KHz   Parameter Value :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1_str: top_mod.param_owner1.clk_freq_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2_str : top_mod.param_owner2.clock_speed_K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ConversionFactor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KHz' of OWNER (2) to 12 (K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34:08Z</dcterms:modified>
  <cp:revision>30</cp:revision>
  <dc:subject/>
  <dc:title>ex12_In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34:07Z</vt:lpwstr>
  </property>
  <property fmtid="{D5CDD505-2E9C-101B-9397-08002B2CF9AE}" pid="5" name="TitusGUID">
    <vt:lpwstr>2047365e-e2e2-4720-a50e-ebed3c959e5e</vt:lpwstr>
  </property>
</Properties>
</file>