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BD5C-EF9E-46D8-957E-222F8C91F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3BA5-13F3-430B-B556-207B49D16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FA5D-2907-4D1F-B0B3-B9306EB6C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9A58-FB9C-471C-BE0D-86FABF1E4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F3D9-B565-4570-8408-E6C3CD905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E5F6-CFE7-4869-9A92-E15637EB9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34DF5-FA11-479D-AC67-38AB65BD9E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4896C-42CB-4850-8927-38370266A0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DF70E-8761-46FD-B0E5-EC9DC2A15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736B0-9235-4E37-9513-58EF75C2BF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D5EF1-501E-4B37-8602-F02925FF2A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9032D-C4D0-4004-A16F-8E6CFAF47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63933-2611-4A18-ACF5-A4AA39448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BD579-6233-4976-A2A7-6769FC1A2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9AC8C-F814-422F-A718-A04F04DCFE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CEDF0-F733-4378-A92D-91C4766F99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71F9E-24A4-4B88-91DC-E240B5436C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4679F-135F-41DA-89B4-032FCF139B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20FF-2332-4ABA-A921-20C92922A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Value Change callback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eshadri Chakravart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rameter Value Change callba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requesting and responding to value change notif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module creates couple of parameters and sets callbacks on both of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1, the user module would allow value change without any constra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2, the user module would reject value change unconditional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2" name="Picture 4" descr="cci_ex8.jpeg"/>
          <p:cNvPicPr/>
          <p:nvPr/>
        </p:nvPicPr>
        <p:blipFill>
          <a:blip r:embed="rId1"/>
          <a:stretch/>
        </p:blipFill>
        <p:spPr>
          <a:xfrm>
            <a:off x="138240" y="700200"/>
            <a:ext cx="8867520" cy="54576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7"/>
          <p:cNvSpPr/>
          <p:nvPr/>
        </p:nvSpPr>
        <p:spPr>
          <a:xfrm>
            <a:off x="2093760" y="5370480"/>
            <a:ext cx="6921720" cy="689040"/>
          </a:xfrm>
          <a:prstGeom prst="leftArrowCallout">
            <a:avLst>
              <a:gd name="adj1" fmla="val 14751"/>
              <a:gd name="adj2" fmla="val 25000"/>
              <a:gd name="adj3" fmla="val 123243"/>
              <a:gd name="adj4" fmla="val 365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Observe that since write is rejec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for param_2 reject_write callback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no other callbacks are trigger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br>
              <a:rPr sz="32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08_Parameter_Value_Change_Callbacks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1 is 1 (Default value Specified: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2 is 2 (Default value Specified: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1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ost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Current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2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reject_pre_write_callback: Rejecting Value change on sim_ip.param_2 (2 -&gt; 2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0 s, Caught exception: Error: /Accellera/CCI/SET_PARAM_FAILED: Value rejected by callback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cfg_ip: @0 s, config_ip::end_of_elaboration: [EXTERNAL] Current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1 (10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5T20:36:41Z</dcterms:modified>
  <cp:revision>149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36:41Z</vt:lpwstr>
  </property>
  <property fmtid="{D5CDD505-2E9C-101B-9397-08002B2CF9AE}" pid="5" name="TitusGUID">
    <vt:lpwstr>e91f1e81-ec8b-4b29-aa9d-61454af1454c</vt:lpwstr>
  </property>
</Properties>
</file>