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CD460-E8EF-4146-BEE4-806206B137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BC1C5-11A3-4634-8A54-6E6D6689A5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5355BC-502C-4E26-8481-2C11B763B5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Text Box 3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86615-79D0-47F4-A53F-7416DA5851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2E2C8E-A8BA-485B-89AE-A931D98C17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7B279-535A-4E2E-A715-1D86398D5D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968F9B-C3A4-40FF-940E-D6FC34E5CB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D9430-230B-46B5-B9A4-1677EB996A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94FD5D-D3E8-455C-AD8F-C135A4D9BD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0D9D1-DA4F-4602-BD02-4FE918D574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A66BB9-2978-4D06-B34D-F5E4EEE932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50303-A7AB-413F-9C28-DE95F0819C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401136-9B51-450E-96B9-4D3A455016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AF748-E1FF-4960-8F9A-91D0C82E5D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4AF90-0BE2-4A4C-8DE4-6AA7F5152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23B32-3DA5-4533-9640-6AF2002DA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2A801-D539-4F15-A02E-FB8CCE472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E797-7EB9-4E96-ADA6-A20D4D152B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D9F35-962E-425C-B17B-13EDA0AA2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1562-0EB2-40C4-AC0C-91D478104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BBDD-B3C9-427B-BB11-6127D62404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A2735-E621-4F28-A362-0C724CCE7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4F34-567F-4B28-8E4A-A794AFA9C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2E73-BEA6-4FCB-B9E5-149F03D2E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AEE49-E29A-46F8-933B-136B4AB59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37440"/>
            <a:ext cx="1217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4C23A4-4640-49A8-A443-994357AB2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fault vs. Preset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ault vs. Preset values of a par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relative precedence of default (supplied to parameter constructor) and preset (via name-based broker access prior to construction) val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User module specifies some default value for different parameters in respective constru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t one of the parameters to a different value from a tool/configurator, before the user module’s constr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Report the various parameters’ name (hierarchical) and value in the constructor and at the end of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the reporting of unconsumed preset values with filtering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141640" y="1546200"/>
            <a:ext cx="1989000" cy="42084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AutoShape 4"/>
          <p:cNvCxnSpPr>
            <a:stCxn id="93" idx="2"/>
          </p:cNvCxnSpPr>
          <p:nvPr/>
        </p:nvCxnSpPr>
        <p:spPr>
          <a:xfrm flipH="1">
            <a:off x="3134520" y="1966680"/>
            <a:ext cx="2520" cy="40266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5"/>
          <p:cNvCxnSpPr>
            <a:stCxn id="94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AutoShape 6"/>
          <p:cNvSpPr/>
          <p:nvPr/>
        </p:nvSpPr>
        <p:spPr>
          <a:xfrm>
            <a:off x="1138320" y="309708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1=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36880" y="200808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176640" y="2743200"/>
            <a:ext cx="2979720" cy="2649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ff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1(“param_1”, 1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179880" y="3076560"/>
            <a:ext cx="2979720" cy="26208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2(“param_2”, 2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173240" y="353700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2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572000" y="196056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sim_ip.param_1”, “10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6742080" y="4149720"/>
            <a:ext cx="1933560" cy="763560"/>
          </a:xfrm>
          <a:prstGeom prst="wedgeRoundRectCallout">
            <a:avLst>
              <a:gd name="adj1" fmla="val -77194"/>
              <a:gd name="adj2" fmla="val -204425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takes precedence over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faul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(see param_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4572000" y="229068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cfg_ip.param_implicit_3”, “3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6948360" y="2976480"/>
            <a:ext cx="2119320" cy="244440"/>
          </a:xfrm>
          <a:prstGeom prst="wedgeRoundRectCallout">
            <a:avLst>
              <a:gd name="adj1" fmla="val -42587"/>
              <a:gd name="adj2" fmla="val -200282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133720" y="1246320"/>
            <a:ext cx="1989000" cy="42048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AutoShape 4"/>
          <p:cNvCxnSpPr>
            <a:stCxn id="109" idx="2"/>
          </p:cNvCxnSpPr>
          <p:nvPr/>
        </p:nvCxnSpPr>
        <p:spPr>
          <a:xfrm>
            <a:off x="3126960" y="1666440"/>
            <a:ext cx="2520" cy="43268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5"/>
          <p:cNvCxnSpPr>
            <a:stCxn id="110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7"/>
          <p:cNvSpPr/>
          <p:nvPr/>
        </p:nvSpPr>
        <p:spPr>
          <a:xfrm>
            <a:off x="241560" y="169704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Si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5"/>
          <p:cNvSpPr/>
          <p:nvPr/>
        </p:nvSpPr>
        <p:spPr>
          <a:xfrm>
            <a:off x="5391000" y="2036880"/>
            <a:ext cx="345600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cci-&gt;set_init_value(“sim_ip.param_1”, “5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659640" y="2736720"/>
            <a:ext cx="2222280" cy="763560"/>
          </a:xfrm>
          <a:prstGeom prst="wedgeRoundRectCallout">
            <a:avLst>
              <a:gd name="adj1" fmla="val 48055"/>
              <a:gd name="adj2" fmla="val -107018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set after construction does not affect parameter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755640" y="2521080"/>
            <a:ext cx="439272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param_implicit_1”, “1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755640" y="2876400"/>
            <a:ext cx="43927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foo.bar.baz.param_implicit_2”, “2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ight Brace 2"/>
          <p:cNvSpPr/>
          <p:nvPr/>
        </p:nvSpPr>
        <p:spPr>
          <a:xfrm>
            <a:off x="5148360" y="2635200"/>
            <a:ext cx="187200" cy="482760"/>
          </a:xfrm>
          <a:custGeom>
            <a:avLst/>
            <a:gdLst>
              <a:gd name="textAreaLeft" fmla="*/ 0 w 187200"/>
              <a:gd name="textAreaRight" fmla="*/ 67680 w 187200"/>
              <a:gd name="textAreaTop" fmla="*/ 4680 h 482760"/>
              <a:gd name="textAreaBottom" fmla="*/ 47808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0"/>
                  <a:pt x="10800" y="699"/>
                </a:cubicBezTo>
                <a:lnTo>
                  <a:pt x="10800" y="10448"/>
                </a:lnTo>
                <a:cubicBezTo>
                  <a:pt x="10800" y="10798"/>
                  <a:pt x="16200" y="11147"/>
                  <a:pt x="21600" y="11147"/>
                </a:cubicBezTo>
                <a:cubicBezTo>
                  <a:pt x="16200" y="11147"/>
                  <a:pt x="10800" y="11497"/>
                  <a:pt x="10800" y="11846"/>
                </a:cubicBezTo>
                <a:lnTo>
                  <a:pt x="10800" y="20901"/>
                </a:lnTo>
                <a:cubicBezTo>
                  <a:pt x="10800" y="2125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3851280" y="3446640"/>
            <a:ext cx="2195640" cy="342720"/>
          </a:xfrm>
          <a:prstGeom prst="wedgeRoundRectCallout">
            <a:avLst>
              <a:gd name="adj1" fmla="val 20902"/>
              <a:gd name="adj2" fmla="val -218759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ex05_Default_and_Preset_Value.log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41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Attempting to setup config_ip to 10 before IP constr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sim_ip.param_1's preset value to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cfg_ip.param_implicit_3's preset value to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1 is 10 (Default value Specified: 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2 is 2 (Default value Specified: 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execute: [EXTERNAL] Current value of sim_ip.param_1 is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param_implicit_1's preset value to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foo.bar.baz.param_implicit_2's preset value to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cfg_ip.param_implicit_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Ignore unconsumed values cfg_ip.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resu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80880" y="134136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with value = 2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End Simulation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1 is 10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2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7:21:23Z</cp:lastPrinted>
  <dcterms:modified xsi:type="dcterms:W3CDTF">2017-12-15T17:44:00Z</dcterms:modified>
  <cp:revision>158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17:43:59Z</vt:lpwstr>
  </property>
  <property fmtid="{D5CDD505-2E9C-101B-9397-08002B2CF9AE}" pid="5" name="TitusGUID">
    <vt:lpwstr>76883866-3039-4c24-b240-4506b7a28644</vt:lpwstr>
  </property>
</Properties>
</file>