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44CF9-8415-4460-93EB-388039226D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B4B2E-7391-4C42-9CC3-A0386367AA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9EDB8-E9FE-4EA5-A2D3-2884375CFF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4F89D-5B15-44D2-A542-2D93F3FBBA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955A9-7DB4-4989-8375-5335057757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There are lot more messages coming from CCI infrastructure code; the report includes only user messages (not from cci infr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F0799-BEA2-460F-9551-09718D5DDB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ABD812-2357-4BF1-B60F-1848AF1AEF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55259B-5D85-4CBE-BB0B-171E60E358C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7B5799-4D32-4D89-85B3-E3D6A8A32D3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75D30E-9598-4B1B-A058-A30BCDEBE0F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085170-27DE-4D53-BEE9-39338DC7F14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A192ED-D220-4E2E-9E5E-31AD077025A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28C2C3-E1E1-48C5-AD79-B8E1A5AC12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5B823F-8A6A-40DA-9FCF-FD311FBBF7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E56872-68A9-4FD2-AB41-1A5BC965B66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1657CD-0670-4E4F-82FE-581821F26D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05D831-D0E6-4937-994D-B505AAD71A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327320-F213-4ED6-B4AF-38B351FE43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E3D39-8760-435D-BDEE-4B9E3B3B2C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imple Immutable Parameters</a:t>
            </a:r>
            <a:br>
              <a:rPr sz="2600"/>
            </a:br>
            <a:br>
              <a:rPr sz="26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C CCI WG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shal Go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eb 201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Simple Immutable Parameter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31640" indent="-32364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 use of simple immutable paramet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r module specifies variables as immut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Case 1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fine a parameter with default val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nce this value is set, any attempt to change the parameter at run time will fail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Case 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fine an initial value for a parameter; before parameter construction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value will take precedence over default (constructor) value of the parameter; as well as; any attempt to change the parameter at run time will fai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Sequence Diagram (UC-1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Rectangle 13"/>
          <p:cNvSpPr/>
          <p:nvPr/>
        </p:nvSpPr>
        <p:spPr>
          <a:xfrm>
            <a:off x="5068800" y="1009800"/>
            <a:ext cx="1989360" cy="4204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99"/>
                </a:solidFill>
                <a:uFillTx/>
                <a:latin typeface="Arial"/>
              </a:rPr>
              <a:t>sim_ip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: simple_i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Rectangle 14"/>
          <p:cNvSpPr/>
          <p:nvPr/>
        </p:nvSpPr>
        <p:spPr>
          <a:xfrm>
            <a:off x="2143080" y="1001880"/>
            <a:ext cx="1989360" cy="4284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99"/>
                </a:solidFill>
                <a:uFillTx/>
                <a:latin typeface="Arial"/>
              </a:rPr>
              <a:t>cfg_ip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: config_i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94" name="Straight Arrow Connector 16"/>
          <p:cNvCxnSpPr>
            <a:stCxn id="92" idx="2"/>
          </p:cNvCxnSpPr>
          <p:nvPr/>
        </p:nvCxnSpPr>
        <p:spPr>
          <a:xfrm flipH="1">
            <a:off x="6058800" y="1429920"/>
            <a:ext cx="5400" cy="417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5" name="Straight Arrow Connector 17"/>
          <p:cNvCxnSpPr>
            <a:stCxn id="93" idx="2"/>
          </p:cNvCxnSpPr>
          <p:nvPr/>
        </p:nvCxnSpPr>
        <p:spPr>
          <a:xfrm flipH="1">
            <a:off x="3118680" y="1430280"/>
            <a:ext cx="18360" cy="426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6" name="TextBox 27"/>
          <p:cNvSpPr/>
          <p:nvPr/>
        </p:nvSpPr>
        <p:spPr>
          <a:xfrm>
            <a:off x="657360" y="1460520"/>
            <a:ext cx="121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@t = 0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Folded Corner 41"/>
          <p:cNvSpPr/>
          <p:nvPr/>
        </p:nvSpPr>
        <p:spPr>
          <a:xfrm>
            <a:off x="6129360" y="2019240"/>
            <a:ext cx="2773440" cy="39996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ci_param&lt;int,immutable_parameter&gt;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_1(“param_1”, 1)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Folded Corner 42"/>
          <p:cNvSpPr/>
          <p:nvPr/>
        </p:nvSpPr>
        <p:spPr>
          <a:xfrm>
            <a:off x="6129360" y="3570120"/>
            <a:ext cx="1214280" cy="44136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_1 = 10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Rounded Rectangular Callout 44"/>
          <p:cNvSpPr/>
          <p:nvPr/>
        </p:nvSpPr>
        <p:spPr>
          <a:xfrm>
            <a:off x="3746520" y="5497560"/>
            <a:ext cx="2173320" cy="558720"/>
          </a:xfrm>
          <a:prstGeom prst="wedgeRoundRectCallout">
            <a:avLst>
              <a:gd name="adj1" fmla="val 56509"/>
              <a:gd name="adj2" fmla="val -108333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param_1 ‘Owner’ modu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Rounded Rectangular Callout 45"/>
          <p:cNvSpPr/>
          <p:nvPr/>
        </p:nvSpPr>
        <p:spPr>
          <a:xfrm>
            <a:off x="814320" y="5502240"/>
            <a:ext cx="2216160" cy="531720"/>
          </a:xfrm>
          <a:prstGeom prst="wedgeRoundRectCallout">
            <a:avLst>
              <a:gd name="adj1" fmla="val 53509"/>
              <a:gd name="adj2" fmla="val -135768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EXTERNAL module updating param_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Rounded Rectangular Callout 44"/>
          <p:cNvSpPr/>
          <p:nvPr/>
        </p:nvSpPr>
        <p:spPr>
          <a:xfrm>
            <a:off x="7054920" y="2579760"/>
            <a:ext cx="1904760" cy="579240"/>
          </a:xfrm>
          <a:prstGeom prst="wedgeRoundRectCallout">
            <a:avLst>
              <a:gd name="adj1" fmla="val -47550"/>
              <a:gd name="adj2" fmla="val -75976"/>
              <a:gd name="adj3" fmla="val 16667"/>
            </a:avLst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Default value is ignored. param_1 remains “100” (Ref: example5)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Rounded Rectangular Callout 44"/>
          <p:cNvSpPr/>
          <p:nvPr/>
        </p:nvSpPr>
        <p:spPr>
          <a:xfrm>
            <a:off x="3225960" y="2378160"/>
            <a:ext cx="1519200" cy="304560"/>
          </a:xfrm>
          <a:prstGeom prst="wedgeRoundRectCallout">
            <a:avLst>
              <a:gd name="adj1" fmla="val -47037"/>
              <a:gd name="adj2" fmla="val -127875"/>
              <a:gd name="adj3" fmla="val 16667"/>
            </a:avLst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Set up init value to 100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Rounded Rectangular Callout 44"/>
          <p:cNvSpPr/>
          <p:nvPr/>
        </p:nvSpPr>
        <p:spPr>
          <a:xfrm>
            <a:off x="7035840" y="4240080"/>
            <a:ext cx="1923840" cy="534960"/>
          </a:xfrm>
          <a:prstGeom prst="wedgeRoundRectCallout">
            <a:avLst>
              <a:gd name="adj1" fmla="val -56300"/>
              <a:gd name="adj2" fmla="val -89625"/>
              <a:gd name="adj3" fmla="val 16667"/>
            </a:avLst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Attempt to update param_1 value fails. param_1 remains “100”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TextBox 28"/>
          <p:cNvSpPr/>
          <p:nvPr/>
        </p:nvSpPr>
        <p:spPr>
          <a:xfrm>
            <a:off x="662760" y="3562200"/>
            <a:ext cx="135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@t = 10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" name="Folded Corner 41"/>
          <p:cNvSpPr/>
          <p:nvPr/>
        </p:nvSpPr>
        <p:spPr>
          <a:xfrm>
            <a:off x="3225960" y="1517760"/>
            <a:ext cx="2398680" cy="63504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_broker.set_preset_cci_value(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"sim_ip.param_1",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ci::cci_value::from_json("100"))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Sequence Diagram (UC-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ectangle 13"/>
          <p:cNvSpPr/>
          <p:nvPr/>
        </p:nvSpPr>
        <p:spPr>
          <a:xfrm>
            <a:off x="5068800" y="1009800"/>
            <a:ext cx="1989360" cy="4204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99"/>
                </a:solidFill>
                <a:uFillTx/>
                <a:latin typeface="Arial"/>
              </a:rPr>
              <a:t>sim_ip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: simple_i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4"/>
          <p:cNvSpPr/>
          <p:nvPr/>
        </p:nvSpPr>
        <p:spPr>
          <a:xfrm>
            <a:off x="2149560" y="984240"/>
            <a:ext cx="1989000" cy="42876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99"/>
                </a:solidFill>
                <a:uFillTx/>
                <a:latin typeface="Arial"/>
              </a:rPr>
              <a:t>cfg_ip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: config_i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09" name="Straight Arrow Connector 16"/>
          <p:cNvCxnSpPr>
            <a:stCxn id="107" idx="2"/>
          </p:cNvCxnSpPr>
          <p:nvPr/>
        </p:nvCxnSpPr>
        <p:spPr>
          <a:xfrm flipH="1">
            <a:off x="6058800" y="1429920"/>
            <a:ext cx="5400" cy="417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0" name="Straight Arrow Connector 17"/>
          <p:cNvCxnSpPr>
            <a:stCxn id="108" idx="2"/>
          </p:cNvCxnSpPr>
          <p:nvPr/>
        </p:nvCxnSpPr>
        <p:spPr>
          <a:xfrm flipH="1">
            <a:off x="3125160" y="1412640"/>
            <a:ext cx="19800" cy="4261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1" name="TextBox 27"/>
          <p:cNvSpPr/>
          <p:nvPr/>
        </p:nvSpPr>
        <p:spPr>
          <a:xfrm>
            <a:off x="657360" y="1460520"/>
            <a:ext cx="121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@t = 0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28"/>
          <p:cNvSpPr/>
          <p:nvPr/>
        </p:nvSpPr>
        <p:spPr>
          <a:xfrm>
            <a:off x="608760" y="2884320"/>
            <a:ext cx="135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@t = 20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Folded Corner 42"/>
          <p:cNvSpPr/>
          <p:nvPr/>
        </p:nvSpPr>
        <p:spPr>
          <a:xfrm>
            <a:off x="6102360" y="4059360"/>
            <a:ext cx="1258920" cy="27468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_2 = 20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44"/>
          <p:cNvSpPr/>
          <p:nvPr/>
        </p:nvSpPr>
        <p:spPr>
          <a:xfrm>
            <a:off x="3720960" y="5470560"/>
            <a:ext cx="2173320" cy="558720"/>
          </a:xfrm>
          <a:prstGeom prst="wedgeRoundRectCallout">
            <a:avLst>
              <a:gd name="adj1" fmla="val 56509"/>
              <a:gd name="adj2" fmla="val -108333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param_2 ‘Owner’ modu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Rounded Rectangular Callout 45"/>
          <p:cNvSpPr/>
          <p:nvPr/>
        </p:nvSpPr>
        <p:spPr>
          <a:xfrm>
            <a:off x="789120" y="5432400"/>
            <a:ext cx="2276280" cy="541440"/>
          </a:xfrm>
          <a:prstGeom prst="wedgeRoundRectCallout">
            <a:avLst>
              <a:gd name="adj1" fmla="val 51254"/>
              <a:gd name="adj2" fmla="val -119689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EXTERNAL module updating sim_ip.param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44"/>
          <p:cNvSpPr/>
          <p:nvPr/>
        </p:nvSpPr>
        <p:spPr>
          <a:xfrm>
            <a:off x="6494400" y="2365200"/>
            <a:ext cx="1962360" cy="385920"/>
          </a:xfrm>
          <a:prstGeom prst="wedgeRoundRectCallout">
            <a:avLst>
              <a:gd name="adj1" fmla="val -46513"/>
              <a:gd name="adj2" fmla="val -88023"/>
              <a:gd name="adj3" fmla="val 16667"/>
            </a:avLst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Default value will be used. param_2 = 2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Rounded Rectangular Callout 44"/>
          <p:cNvSpPr/>
          <p:nvPr/>
        </p:nvSpPr>
        <p:spPr>
          <a:xfrm>
            <a:off x="6800760" y="4570560"/>
            <a:ext cx="1390680" cy="441000"/>
          </a:xfrm>
          <a:prstGeom prst="wedgeRoundRectCallout">
            <a:avLst>
              <a:gd name="adj1" fmla="val -56611"/>
              <a:gd name="adj2" fmla="val -98666"/>
              <a:gd name="adj3" fmla="val 16667"/>
            </a:avLst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Internal updates are also reject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Folded Corner 42"/>
          <p:cNvSpPr/>
          <p:nvPr/>
        </p:nvSpPr>
        <p:spPr>
          <a:xfrm>
            <a:off x="3201840" y="2889360"/>
            <a:ext cx="2819520" cy="39528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_2_handle.set_cci_value(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ci_value("200"))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" name="TextBox 28"/>
          <p:cNvSpPr/>
          <p:nvPr/>
        </p:nvSpPr>
        <p:spPr>
          <a:xfrm>
            <a:off x="648360" y="3933720"/>
            <a:ext cx="135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@t = 30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Folded Corner 41"/>
          <p:cNvSpPr/>
          <p:nvPr/>
        </p:nvSpPr>
        <p:spPr>
          <a:xfrm>
            <a:off x="6087960" y="1776240"/>
            <a:ext cx="2800440" cy="40032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ci_param&lt;int,immutable_parameter&gt;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_2(“param_2”, 2)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Rounded Rectangular Callout 44"/>
          <p:cNvSpPr/>
          <p:nvPr/>
        </p:nvSpPr>
        <p:spPr>
          <a:xfrm>
            <a:off x="3691080" y="3505320"/>
            <a:ext cx="1517400" cy="428400"/>
          </a:xfrm>
          <a:prstGeom prst="wedgeRoundRectCallout">
            <a:avLst>
              <a:gd name="adj1" fmla="val -40527"/>
              <a:gd name="adj2" fmla="val -86462"/>
              <a:gd name="adj3" fmla="val 16667"/>
            </a:avLst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External updates are reject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86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2800" spc="-1" strike="noStrike">
                <a:solidFill>
                  <a:srgbClr val="000099"/>
                </a:solidFill>
                <a:latin typeface="Courier New"/>
              </a:rPr>
              <a:t>ex04_Simple_Immutable_param.log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80880" y="1133640"/>
            <a:ext cx="8686800" cy="50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SystemC Simul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cfg_ip: @0 s, Attempting to setup config_ip to 100 before IP construc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cfg_ip: @0 s, Set init-value of sim_ip.param_1 to 1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@0 s, @Ctor: Default value specified for sim_ip.param_1 is 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@0 s, @Ctor: Default value specified for sim_ip.param_2 is 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@0 s, @Ctor: param_1 mutable type is immutabl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@0 s, @Ctor: param_2 mutable type is immutabl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Consolas"/>
              </a:rPr>
              <a:t>Info: sim_ip: Info: Ctor: immutable param:param_1 = 100 (expected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Consolas"/>
              </a:rPr>
              <a:t>Info: sim_ip: Info: Ctor: immutable param:param_2 = 2 (expected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c_main: Begin Simul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Consolas"/>
              </a:rPr>
              <a:t>Info: sim_ip: @0 s, execute method is testing Use Case 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Consolas"/>
              </a:rPr>
              <a:t>Info: sim_ip: Info: @Run: param_1 = 100 (expected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@10 ns, @Run: Assign new value (10) to sim_ip.param_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nsolas"/>
              </a:rPr>
              <a:t>Error: /Accellera/CCI/SET_PARAM_FAILED: Parameter (sim_ip.param_1) is immutable.</a:t>
            </a:r>
            <a:br>
              <a:rPr sz="1200"/>
            </a:br>
            <a:r>
              <a:rPr b="1" lang="en-US" sz="1200" spc="-1" strike="noStrike">
                <a:solidFill>
                  <a:srgbClr val="7f7f7f"/>
                </a:solidFill>
                <a:latin typeface="Consolas"/>
              </a:rPr>
              <a:t>In file: &lt;removed by verify.pl&gt;</a:t>
            </a:r>
            <a:br>
              <a:rPr sz="1200"/>
            </a:br>
            <a:r>
              <a:rPr b="1" lang="en-US" sz="1200" spc="-1" strike="noStrike">
                <a:solidFill>
                  <a:srgbClr val="7f7f7f"/>
                </a:solidFill>
                <a:latin typeface="Consolas"/>
              </a:rPr>
              <a:t>In process: sim_ip.execute @ 10 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Consolas"/>
              </a:rPr>
              <a:t>Info: sim_ip: Info: @Run: param_1 = 100 (expected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137880"/>
            <a:ext cx="8686800" cy="7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ntd..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80880" y="1244520"/>
            <a:ext cx="8686800" cy="492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Consolas"/>
              </a:rPr>
              <a:t>Info: sim_ip: @10 ns, execute method is testing Use Case 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cfg_ip: @20 ns, Attempting to set value of 'sim_ip.param_2' to 2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nsolas"/>
              </a:rPr>
              <a:t>Error: /Accellera/CCI/SET_PARAM_FAILED: Parameter (sim_ip.param_2) is immutable.</a:t>
            </a:r>
            <a:br>
              <a:rPr sz="1200"/>
            </a:br>
            <a:r>
              <a:rPr b="1" lang="en-US" sz="1200" spc="-1" strike="noStrike">
                <a:solidFill>
                  <a:srgbClr val="7f7f7f"/>
                </a:solidFill>
                <a:latin typeface="Consolas"/>
              </a:rPr>
              <a:t>In file: &lt;removed by verify.pl&gt;</a:t>
            </a:r>
            <a:br>
              <a:rPr sz="1200"/>
            </a:br>
            <a:r>
              <a:rPr b="1" lang="en-US" sz="1200" spc="-1" strike="noStrike">
                <a:solidFill>
                  <a:srgbClr val="7f7f7f"/>
                </a:solidFill>
                <a:latin typeface="Consolas"/>
              </a:rPr>
              <a:t>In process: cfg_ip.execute @ 20 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Consolas"/>
              </a:rPr>
              <a:t>Info: sim_ip: Info: @Run: param_2 = 2 (expected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@30 ns, @Run: Assign new value (20) to sim_ip.param_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nsolas"/>
              </a:rPr>
              <a:t>Error: /Accellera/CCI/SET_PARAM_FAILED: Parameter (sim_ip.param_2) is immutable.</a:t>
            </a:r>
            <a:br>
              <a:rPr sz="1200"/>
            </a:br>
            <a:r>
              <a:rPr b="1" lang="en-US" sz="1200" spc="-1" strike="noStrike">
                <a:solidFill>
                  <a:srgbClr val="7f7f7f"/>
                </a:solidFill>
                <a:latin typeface="Consolas"/>
              </a:rPr>
              <a:t>In file: &lt;removed by verify.pl&gt;</a:t>
            </a:r>
            <a:br>
              <a:rPr sz="1200"/>
            </a:br>
            <a:r>
              <a:rPr b="1" lang="en-US" sz="1200" spc="-1" strike="noStrike">
                <a:solidFill>
                  <a:srgbClr val="7f7f7f"/>
                </a:solidFill>
                <a:latin typeface="Consolas"/>
              </a:rPr>
              <a:t>In process: sim_ip.execute @ 30 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Consolas"/>
              </a:rPr>
              <a:t>Info: sim_ip: Info: @Run: param_2 = 2 (expected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c_main: End Simul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Vishal Goel</dc:creator>
  <dc:description/>
  <cp:keywords>CTPClassification=CTP_IC:VisualMarkings=</cp:keywords>
  <dc:language>en-US</dc:language>
  <cp:lastModifiedBy>Wieman, Trevor</cp:lastModifiedBy>
  <cp:lastPrinted>2008-06-04T21:47:01Z</cp:lastPrinted>
  <dcterms:modified xsi:type="dcterms:W3CDTF">2017-10-06T16:22:58Z</dcterms:modified>
  <cp:revision>212</cp:revision>
  <dc:subject/>
  <dc:title>Simple Immutable Parameters Exampl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TPClassification">
    <vt:lpwstr>CTP_IC</vt:lpwstr>
  </property>
  <property fmtid="{D5CDD505-2E9C-101B-9397-08002B2CF9AE}" pid="3" name="CTP_BU">
    <vt:lpwstr>PRODUCT DEVELOPMENT SOLUTION</vt:lpwstr>
  </property>
  <property fmtid="{D5CDD505-2E9C-101B-9397-08002B2CF9AE}" pid="4" name="CTP_TimeStamp">
    <vt:lpwstr>2016-12-20 21:49:18Z</vt:lpwstr>
  </property>
  <property fmtid="{D5CDD505-2E9C-101B-9397-08002B2CF9AE}" pid="5" name="TitusGUID">
    <vt:lpwstr>f1c79e0e-b5e2-49e9-9085-1b84db7193b4</vt:lpwstr>
  </property>
</Properties>
</file>