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8FAC-776D-4FA7-A17E-BD3141649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8564-525B-41D1-A122-6DE9C10DB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2D5A-8EB9-4EAA-8032-8C02F9AF2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2A85-5EF0-43D2-8D29-C772FD190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DF9F-8AB8-433D-A119-D7E0BA246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DA80C-9803-446E-B3DB-461B9A61E8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57343-DD83-4C05-84FA-857D557818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6E1DC-810D-40B6-A296-F9432D7AC9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E0505-3F04-4DBE-BF4C-D76478AF84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3E958-CE23-4228-B430-F825743084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CE5F9-20E4-4798-B50B-F641B064F9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19B59-0912-4D8D-A551-38DA7B6F4E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4CD01-C58E-4FBD-86A0-7D0C743ED5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FB59B-31BA-48C9-91CD-3ED6DC5AFC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F5FCA-5EB5-4272-A24C-10A00784C9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22838-768D-4FC8-B4A5-7970975405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19000-27F6-443E-9731-B1B875CE56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2B42-4983-4711-89F0-03A925D19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laboration Time Parameter Example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daya Ranga L.V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Elaboration-Time Parameter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f structural paramete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ing of invalid (post-elaboration) updates to structural parameter valu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e how models that finalize their structure prior to end_of_elaboration should lock their elaboration-time parameter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br>
              <a:rPr sz="1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monstrates how models that finalize their structure prior to end_of_elaboration should lock their elaboration-time parameters. 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32080" y="216360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0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444960" y="1776240"/>
            <a:ext cx="13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CTO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477360" y="36464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07880" y="3011400"/>
            <a:ext cx="1486440" cy="155160"/>
            <a:chOff x="3107880" y="3011400"/>
            <a:chExt cx="1486440" cy="155160"/>
          </a:xfrm>
        </p:grpSpPr>
        <p:sp>
          <p:nvSpPr>
            <p:cNvPr id="100" name="Rectangle 32"/>
            <p:cNvSpPr/>
            <p:nvPr/>
          </p:nvSpPr>
          <p:spPr>
            <a:xfrm>
              <a:off x="3129120" y="30114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07880" y="31629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42880" y="393552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476640" y="438156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4" name="Straight Arrow Connector 39"/>
          <p:cNvCxnSpPr/>
          <p:nvPr/>
        </p:nvCxnSpPr>
        <p:spPr>
          <a:xfrm flipH="1" flipV="1">
            <a:off x="3129840" y="4656960"/>
            <a:ext cx="3313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" name="Folded Corner 40"/>
          <p:cNvSpPr/>
          <p:nvPr/>
        </p:nvSpPr>
        <p:spPr>
          <a:xfrm>
            <a:off x="1477800" y="4802040"/>
            <a:ext cx="1495440" cy="343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Folded Corner 42"/>
          <p:cNvSpPr/>
          <p:nvPr/>
        </p:nvSpPr>
        <p:spPr>
          <a:xfrm>
            <a:off x="3216240" y="2631960"/>
            <a:ext cx="160344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uc_para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Folded Corner 43"/>
          <p:cNvSpPr/>
          <p:nvPr/>
        </p:nvSpPr>
        <p:spPr>
          <a:xfrm>
            <a:off x="3502080" y="4191120"/>
            <a:ext cx="2886120" cy="4111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_param_handle.set_cci_value(cci::cci_value::from_json("3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truc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struc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27"/>
          <p:cNvSpPr/>
          <p:nvPr/>
        </p:nvSpPr>
        <p:spPr>
          <a:xfrm>
            <a:off x="477720" y="2744640"/>
            <a:ext cx="260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Before end of elabora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Group 35"/>
          <p:cNvGrpSpPr/>
          <p:nvPr/>
        </p:nvGrpSpPr>
        <p:grpSpPr>
          <a:xfrm>
            <a:off x="3107880" y="3903840"/>
            <a:ext cx="1486440" cy="156600"/>
            <a:chOff x="3107880" y="3903840"/>
            <a:chExt cx="1486440" cy="156600"/>
          </a:xfrm>
        </p:grpSpPr>
        <p:sp>
          <p:nvSpPr>
            <p:cNvPr id="112" name="Rectangle 32"/>
            <p:cNvSpPr/>
            <p:nvPr/>
          </p:nvSpPr>
          <p:spPr>
            <a:xfrm>
              <a:off x="3129120" y="3903840"/>
              <a:ext cx="1465200" cy="15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3" name="Straight Arrow Connector 34"/>
            <p:cNvCxnSpPr/>
            <p:nvPr/>
          </p:nvCxnSpPr>
          <p:spPr>
            <a:xfrm flipH="1" flipV="1">
              <a:off x="3107880" y="405684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14" name="Folded Corner 42"/>
          <p:cNvSpPr/>
          <p:nvPr/>
        </p:nvSpPr>
        <p:spPr>
          <a:xfrm>
            <a:off x="3216240" y="3532320"/>
            <a:ext cx="161280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uc_para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Folded Corner 26"/>
          <p:cNvSpPr/>
          <p:nvPr/>
        </p:nvSpPr>
        <p:spPr>
          <a:xfrm>
            <a:off x="1519200" y="308772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Folded Corner 42"/>
          <p:cNvSpPr/>
          <p:nvPr/>
        </p:nvSpPr>
        <p:spPr>
          <a:xfrm>
            <a:off x="3216240" y="1792440"/>
            <a:ext cx="186840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_param&lt;int&gt; struc_param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03_Elab_Time_Param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0880" y="1588680"/>
            <a:ext cx="8686800" cy="45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Ctor: Default value of sim_ip.struc_param is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Before_End_Elab: Set value of struc_param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Before_End_Elab: Value of struc_param changed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Set value of struc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lock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Value of struc_param unchanged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Set value of sim_ip.struc_param to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 lock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cfg_ip.execute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Value of sim_ip.struc_param remains unchanged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Dtor: Current value of sim_ip.struc_param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32:41Z</cp:lastPrinted>
  <dcterms:modified xsi:type="dcterms:W3CDTF">2017-11-15T21:03:03Z</dcterms:modified>
  <cp:revision>173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1-15 21:03:03Z</vt:lpwstr>
  </property>
  <property fmtid="{D5CDD505-2E9C-101B-9397-08002B2CF9AE}" pid="5" name="TitusGUID">
    <vt:lpwstr>547c93aa-b014-4213-b6ae-5ea969590b9c</vt:lpwstr>
  </property>
</Properties>
</file>