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5E8B-E19D-4BA4-86C3-7A7D3244E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9764-11C7-4B13-9826-77CCD6E90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94C0-2CA0-4CBD-BCBD-64A9CC818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D8B9-8097-465B-8BD4-43CA6477B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4205-09B4-4000-BE88-04AA4DC25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4E77-B82E-4E47-845C-5C9D04AA0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08821-4BBF-472C-8246-2612DE8CD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74A26-53AC-47FB-887E-B5758116EC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A18AE-FF0D-42EA-999F-8048516918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6F7F9-5375-47C4-A91E-244747D0B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F1E5-761A-4876-B6CC-E5A2C89AAF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666AC-9FF2-4ADB-9F56-75A1BD2B0D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74539-C61F-46E3-906B-0D22A6EBE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01B7B-6D6A-410F-9718-98C716F38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A5885-4788-47D7-87F9-DE076E186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FF23-96D7-49B9-9467-5457E0EED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E51C0-5E11-4A46-B1A0-9E9A8833AE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32072-E4BD-4DB3-A895-0F0EC2B06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F861-0444-4DF8-86C3-0649B99BD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ing CCI Parameters of Fully Supported Data Type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 Nizamudhe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Overvie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lare, initialize and report the value of a parameter of each fully supported data ty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, unsigned ch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 unsigned int, short int, int64_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 dou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(successful and unsuccessful) conversion of an untyped handle to a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untyped handle to int-param and try to cast it to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igned int-para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84360" y="1185840"/>
            <a:ext cx="1989000" cy="420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850000" y="116352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1672560" y="1606680"/>
            <a:ext cx="5400" cy="41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825600" y="159228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41"/>
          <p:cNvSpPr/>
          <p:nvPr/>
        </p:nvSpPr>
        <p:spPr>
          <a:xfrm>
            <a:off x="1751040" y="1724040"/>
            <a:ext cx="2374920" cy="576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// params w/other types follow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429000" y="1166760"/>
            <a:ext cx="207792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CI-Infrastructu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7"/>
          <p:cNvCxnSpPr>
            <a:stCxn id="97" idx="2"/>
          </p:cNvCxnSpPr>
          <p:nvPr/>
        </p:nvCxnSpPr>
        <p:spPr>
          <a:xfrm flipH="1">
            <a:off x="4453920" y="1595160"/>
            <a:ext cx="14760" cy="42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99" name="Group 34"/>
          <p:cNvGrpSpPr/>
          <p:nvPr/>
        </p:nvGrpSpPr>
        <p:grpSpPr>
          <a:xfrm>
            <a:off x="6060600" y="3168720"/>
            <a:ext cx="786240" cy="307800"/>
            <a:chOff x="6060600" y="3168720"/>
            <a:chExt cx="786240" cy="307800"/>
          </a:xfrm>
        </p:grpSpPr>
        <p:sp>
          <p:nvSpPr>
            <p:cNvPr id="100" name="Rectangle 31"/>
            <p:cNvSpPr/>
            <p:nvPr/>
          </p:nvSpPr>
          <p:spPr>
            <a:xfrm>
              <a:off x="6060960" y="3168720"/>
              <a:ext cx="779040" cy="30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3"/>
            <p:cNvCxnSpPr/>
            <p:nvPr/>
          </p:nvCxnSpPr>
          <p:spPr>
            <a:xfrm>
              <a:off x="6060600" y="3466080"/>
              <a:ext cx="7866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41"/>
          <p:cNvSpPr/>
          <p:nvPr/>
        </p:nvSpPr>
        <p:spPr>
          <a:xfrm>
            <a:off x="5006880" y="1916280"/>
            <a:ext cx="3413160" cy="384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handle int_param_handle = m_broker.get_param_handle(param_nam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3" name="Straight Arrow Connector 37"/>
          <p:cNvCxnSpPr/>
          <p:nvPr/>
        </p:nvCxnSpPr>
        <p:spPr>
          <a:xfrm flipH="1" flipV="1">
            <a:off x="4465440" y="2435040"/>
            <a:ext cx="23817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Folded Corner 41"/>
          <p:cNvSpPr/>
          <p:nvPr/>
        </p:nvSpPr>
        <p:spPr>
          <a:xfrm>
            <a:off x="5006880" y="2657520"/>
            <a:ext cx="3738600" cy="439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int&gt; int_param_typed_handle = cci::cci_param_typed_handle&lt;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" name="Group 39"/>
          <p:cNvGrpSpPr/>
          <p:nvPr/>
        </p:nvGrpSpPr>
        <p:grpSpPr>
          <a:xfrm>
            <a:off x="6039000" y="4033800"/>
            <a:ext cx="801720" cy="308160"/>
            <a:chOff x="6039000" y="4033800"/>
            <a:chExt cx="801720" cy="308160"/>
          </a:xfrm>
        </p:grpSpPr>
        <p:sp>
          <p:nvSpPr>
            <p:cNvPr id="106" name="Rectangle 40"/>
            <p:cNvSpPr/>
            <p:nvPr/>
          </p:nvSpPr>
          <p:spPr>
            <a:xfrm>
              <a:off x="6039000" y="4033800"/>
              <a:ext cx="794520" cy="30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7" name="Straight Arrow Connector 41"/>
            <p:cNvCxnSpPr/>
            <p:nvPr/>
          </p:nvCxnSpPr>
          <p:spPr>
            <a:xfrm>
              <a:off x="6039000" y="4331520"/>
              <a:ext cx="80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8" name="Folded Corner 41"/>
          <p:cNvSpPr/>
          <p:nvPr/>
        </p:nvSpPr>
        <p:spPr>
          <a:xfrm>
            <a:off x="4510080" y="3557520"/>
            <a:ext cx="44704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unsigned int&gt; uint_param_typed_handle =cci::cci_param_typed_handle&lt;unsigned 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43"/>
          <p:cNvGrpSpPr/>
          <p:nvPr/>
        </p:nvGrpSpPr>
        <p:grpSpPr>
          <a:xfrm>
            <a:off x="6018120" y="4883040"/>
            <a:ext cx="811800" cy="309600"/>
            <a:chOff x="6018120" y="4883040"/>
            <a:chExt cx="811800" cy="309600"/>
          </a:xfrm>
        </p:grpSpPr>
        <p:sp>
          <p:nvSpPr>
            <p:cNvPr id="110" name="Rectangle 44"/>
            <p:cNvSpPr/>
            <p:nvPr/>
          </p:nvSpPr>
          <p:spPr>
            <a:xfrm>
              <a:off x="6018120" y="4883040"/>
              <a:ext cx="804240" cy="30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1" name="Straight Arrow Connector 45"/>
            <p:cNvCxnSpPr/>
            <p:nvPr/>
          </p:nvCxnSpPr>
          <p:spPr>
            <a:xfrm>
              <a:off x="6018120" y="5182200"/>
              <a:ext cx="812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2" name="Folded Corner 41"/>
          <p:cNvSpPr/>
          <p:nvPr/>
        </p:nvSpPr>
        <p:spPr>
          <a:xfrm>
            <a:off x="4525920" y="4432320"/>
            <a:ext cx="43750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std::string&gt; string_param_typed_handle = cci::cci_param_typed_handle&lt;std::string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23"/>
          <p:cNvSpPr/>
          <p:nvPr/>
        </p:nvSpPr>
        <p:spPr>
          <a:xfrm>
            <a:off x="2895480" y="2395440"/>
            <a:ext cx="1121040" cy="478080"/>
          </a:xfrm>
          <a:prstGeom prst="wedgeRoundRectCallout">
            <a:avLst>
              <a:gd name="adj1" fmla="val 137750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24"/>
          <p:cNvSpPr/>
          <p:nvPr/>
        </p:nvSpPr>
        <p:spPr>
          <a:xfrm>
            <a:off x="2406600" y="3274920"/>
            <a:ext cx="1219320" cy="479520"/>
          </a:xfrm>
          <a:prstGeom prst="wedgeRoundRectCallout">
            <a:avLst>
              <a:gd name="adj1" fmla="val 123236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Un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ex02_Fully_Supported_Data_Type_Param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147168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16_param is 0x123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64_param is 0x97654321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 of sim_ip.int_param is an integer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cast of sim_ip.int_param to cci::cci_param_typed_handle&lt;int&gt; succeed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Curren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80880" y="114300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unsigned int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std::string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End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1-15T20:59:00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0:59:00Z</vt:lpwstr>
  </property>
  <property fmtid="{D5CDD505-2E9C-101B-9397-08002B2CF9AE}" pid="5" name="TitusGUID">
    <vt:lpwstr>bfbb1515-2861-4493-b3f1-199c522b8794</vt:lpwstr>
  </property>
</Properties>
</file>